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B8C-978F-4C2F-8D64-E47DD37D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FA8-2D33-46DB-ABBB-E8D8F8B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3B5-C3AE-4E3E-AF95-DB997095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B3A-A59F-4CF1-8DFC-AE93E0BD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196-2E48-4818-A677-670C8ABF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B16-B334-45CD-82D2-DC7E295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6EC-BA61-4047-939D-B3EE2D9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16A-B914-4345-9447-859A569C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4C5-D87B-4F31-BE9C-97B24A42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F6-57C4-4F0C-BA93-C80AC38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F06-4F71-4DE9-9883-0F53033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EBB-F171-400A-BDDE-16A569D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C5E6-A576-4DEB-9352-ED4B95EA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Arial"/>
              </a:rPr>
              <a:t>Comarques de Catalu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00cc99"/>
                </a:solidFill>
                <a:latin typeface="Arial"/>
              </a:rPr>
              <a:t>El B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1219320"/>
          <a:ext cx="121896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219320"/>
                    <a:ext cx="1218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Arial"/>
              </a:rPr>
              <a:t>Escull un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438280"/>
            <a:ext cx="4114800" cy="1219320"/>
          </a:xfrm>
          <a:custGeom>
            <a:avLst/>
            <a:gdLst>
              <a:gd name="textAreaLeft" fmla="*/ 204840 w 4114800"/>
              <a:gd name="textAreaRight" fmla="*/ 3909960 w 4114800"/>
              <a:gd name="textAreaTop" fmla="*/ 204840 h 1219320"/>
              <a:gd name="textAreaBottom" fmla="*/ 1014480 h 1219320"/>
            </a:gdLst>
            <a:ahLst/>
            <a:rect l="textAreaLeft" t="textAreaTop" r="textAreaRight" b="textAreaBottom"/>
            <a:pathLst>
              <a:path w="72878" h="21600">
                <a:moveTo>
                  <a:pt x="0" y="0"/>
                </a:moveTo>
                <a:lnTo>
                  <a:pt x="72878" y="0"/>
                </a:lnTo>
                <a:lnTo>
                  <a:pt x="72878" y="21600"/>
                </a:lnTo>
                <a:lnTo>
                  <a:pt x="0" y="21600"/>
                </a:lnTo>
                <a:close/>
              </a:path>
              <a:path fill="lightenLess" w="72878" h="21600">
                <a:moveTo>
                  <a:pt x="0" y="0"/>
                </a:moveTo>
                <a:lnTo>
                  <a:pt x="72878" y="0"/>
                </a:lnTo>
                <a:lnTo>
                  <a:pt x="69250" y="3628"/>
                </a:lnTo>
                <a:lnTo>
                  <a:pt x="3628" y="3628"/>
                </a:lnTo>
                <a:close/>
              </a:path>
              <a:path fill="darken" w="72878" h="21600">
                <a:moveTo>
                  <a:pt x="72878" y="0"/>
                </a:moveTo>
                <a:lnTo>
                  <a:pt x="72878" y="21600"/>
                </a:lnTo>
                <a:lnTo>
                  <a:pt x="69250" y="17972"/>
                </a:lnTo>
                <a:lnTo>
                  <a:pt x="69250" y="3628"/>
                </a:lnTo>
                <a:close/>
              </a:path>
              <a:path fill="darkenLess" w="72878" h="21600">
                <a:moveTo>
                  <a:pt x="72878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50" y="17972"/>
                </a:lnTo>
                <a:close/>
              </a:path>
              <a:path fill="lighten" w="72878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tuació geogrà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934320" y="5867280"/>
            <a:ext cx="1295280" cy="609840"/>
          </a:xfrm>
          <a:custGeom>
            <a:avLst/>
            <a:gdLst>
              <a:gd name="textAreaLeft" fmla="*/ 100080 w 1295280"/>
              <a:gd name="textAreaRight" fmla="*/ 1195200 w 12952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45863" h="21600">
                <a:moveTo>
                  <a:pt x="0" y="0"/>
                </a:moveTo>
                <a:lnTo>
                  <a:pt x="45863" y="0"/>
                </a:lnTo>
                <a:lnTo>
                  <a:pt x="45863" y="21600"/>
                </a:lnTo>
                <a:lnTo>
                  <a:pt x="0" y="21600"/>
                </a:lnTo>
                <a:close/>
              </a:path>
              <a:path fill="lightenLess" w="45863" h="21600">
                <a:moveTo>
                  <a:pt x="0" y="0"/>
                </a:moveTo>
                <a:lnTo>
                  <a:pt x="45863" y="0"/>
                </a:lnTo>
                <a:lnTo>
                  <a:pt x="42309" y="3555"/>
                </a:lnTo>
                <a:lnTo>
                  <a:pt x="3555" y="3555"/>
                </a:lnTo>
                <a:close/>
              </a:path>
              <a:path fill="darken" w="45863" h="21600">
                <a:moveTo>
                  <a:pt x="45863" y="0"/>
                </a:moveTo>
                <a:lnTo>
                  <a:pt x="45863" y="21600"/>
                </a:lnTo>
                <a:lnTo>
                  <a:pt x="42309" y="18045"/>
                </a:lnTo>
                <a:lnTo>
                  <a:pt x="42309" y="3555"/>
                </a:lnTo>
                <a:close/>
              </a:path>
              <a:path fill="darkenLess" w="45863" h="21600">
                <a:moveTo>
                  <a:pt x="45863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42309" y="18045"/>
                </a:lnTo>
                <a:close/>
              </a:path>
              <a:path fill="lighten" w="45863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1143000" y="4191120"/>
            <a:ext cx="4114800" cy="1218960"/>
          </a:xfrm>
          <a:custGeom>
            <a:avLst/>
            <a:gdLst>
              <a:gd name="textAreaLeft" fmla="*/ 204480 w 4114800"/>
              <a:gd name="textAreaRight" fmla="*/ 3910320 w 4114800"/>
              <a:gd name="textAreaTop" fmla="*/ 204480 h 1218960"/>
              <a:gd name="textAreaBottom" fmla="*/ 1014480 h 1218960"/>
            </a:gdLst>
            <a:ahLst/>
            <a:rect l="textAreaLeft" t="textAreaTop" r="textAreaRight" b="textAreaBottom"/>
            <a:pathLst>
              <a:path w="72899" h="21600">
                <a:moveTo>
                  <a:pt x="0" y="0"/>
                </a:moveTo>
                <a:lnTo>
                  <a:pt x="72899" y="0"/>
                </a:lnTo>
                <a:lnTo>
                  <a:pt x="72899" y="21600"/>
                </a:lnTo>
                <a:lnTo>
                  <a:pt x="0" y="21600"/>
                </a:lnTo>
                <a:close/>
              </a:path>
              <a:path fill="lightenLess" w="72899" h="21600">
                <a:moveTo>
                  <a:pt x="0" y="0"/>
                </a:moveTo>
                <a:lnTo>
                  <a:pt x="72899" y="0"/>
                </a:lnTo>
                <a:lnTo>
                  <a:pt x="69271" y="3628"/>
                </a:lnTo>
                <a:lnTo>
                  <a:pt x="3628" y="3628"/>
                </a:lnTo>
                <a:close/>
              </a:path>
              <a:path fill="darken" w="72899" h="21600">
                <a:moveTo>
                  <a:pt x="72899" y="0"/>
                </a:moveTo>
                <a:lnTo>
                  <a:pt x="72899" y="21600"/>
                </a:lnTo>
                <a:lnTo>
                  <a:pt x="69271" y="17972"/>
                </a:lnTo>
                <a:lnTo>
                  <a:pt x="69271" y="3628"/>
                </a:lnTo>
                <a:close/>
              </a:path>
              <a:path fill="darkenLess" w="72899" h="21600">
                <a:moveTo>
                  <a:pt x="7289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71" y="17972"/>
                </a:lnTo>
                <a:close/>
              </a:path>
              <a:path fill="lighten" w="7289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histò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867280"/>
            <a:ext cx="3352680" cy="609840"/>
          </a:xfrm>
          <a:custGeom>
            <a:avLst/>
            <a:gdLst>
              <a:gd name="textAreaLeft" fmla="*/ 100080 w 3352680"/>
              <a:gd name="textAreaRight" fmla="*/ 3252600 w 33526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5137" y="3555"/>
                </a:lnTo>
                <a:lnTo>
                  <a:pt x="3555" y="3555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5137" y="18045"/>
                </a:lnTo>
                <a:lnTo>
                  <a:pt x="115137" y="3555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115137" y="18045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nts d’Infor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181480" y="762120"/>
          <a:ext cx="36385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762120"/>
                    <a:ext cx="363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8580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a comarca es troba al bell mig de la Depressió Central Catalana Limita al N amb el Berguedà, a l’E amb Osona i el Vallès Oriental, al SE amb el Vallès Occidental, al S amb el Baix Llobregat, al SW i W amb l’Anoia i al NW amb el Solsonès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019920" y="4191120"/>
            <a:ext cx="1371600" cy="5331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Situació Geogràf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943600" y="51055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ontserr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120600 w 1447560"/>
              <a:gd name="textAreaRight" fmla="*/ 1326960 w 144756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1780" y="3800"/>
                </a:lnTo>
                <a:lnTo>
                  <a:pt x="3800" y="38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1780" y="17800"/>
                </a:lnTo>
                <a:lnTo>
                  <a:pt x="41780" y="38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80" y="178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9480" y="838080"/>
          <a:ext cx="3567240" cy="40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35672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48320" y="4800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a Basílica o La Col·legiata de 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0" y="838080"/>
          <a:ext cx="420228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838080"/>
                    <a:ext cx="420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4800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as del Cardener per la capital del B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 u="sng">
                <a:solidFill>
                  <a:srgbClr val="000000"/>
                </a:solidFill>
                <a:uFillTx/>
                <a:latin typeface="Arial"/>
              </a:rPr>
              <a:t>Manres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Montserr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És un massís muntanyós que s’alça a la dreta del Llobregat, al límit del Bages, l’Anoia i del Baix Llobreg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752480"/>
          <a:ext cx="4038480" cy="37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52480"/>
                    <a:ext cx="40384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4120" y="5791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onestir benedic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La història del B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rimer poblament estable de la comarca es remunta als grups neolítics dels sepulcres de fossa. A l’època pre-romana sembla que formà part del territori dels lacetans. La romanització fou intensa però les restes trobades són escasses. El 878, Guifré el Pelós, ocupà i repoblà el Ripollès, el Lluçanès, el baix Berguedà, el Moianès, la plana de Vic i el pla de Bages, fins a Montserrat i Sol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 flipH="1">
            <a:off x="7772400" y="5715000"/>
            <a:ext cx="838080" cy="685800"/>
          </a:xfrm>
          <a:custGeom>
            <a:avLst/>
            <a:gdLst>
              <a:gd name="textAreaLeft" fmla="*/ 93600 w 838080"/>
              <a:gd name="textAreaRight" fmla="*/ 744480 w 83808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3444" y="2950"/>
                </a:lnTo>
                <a:lnTo>
                  <a:pt x="2950" y="295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3444" y="18650"/>
                </a:lnTo>
                <a:lnTo>
                  <a:pt x="23444" y="295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44" y="1865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394" h="21600">
                <a:moveTo>
                  <a:pt x="7346" y="10800"/>
                </a:moveTo>
                <a:lnTo>
                  <a:pt x="19048" y="4949"/>
                </a:lnTo>
                <a:lnTo>
                  <a:pt x="19048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colonització fou intensificada durant els ss X i XI gràcies a l’estructura senyorial, que garantia la seguretat de la població. Es restauraren vells castells i se’n construïren d’altres. Durant el s. XIV el Bages es trobà ja de ple en un període relativament estable, durant el qual l’explotació del bosc i la ramaderia, l’agricultura, l’explotació de la sal i les activitats menestrals i mercaderes de les viles constituïren les bases de la seva estructura econòmica, que es mantingué fins al s XIX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s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 i de l’Hiperdiccionari de l’Enciclopèdia Catal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4:45:06Z</dcterms:created>
  <dc:creator>Sr. Carlos &amp; Famili</dc:creator>
  <dc:description/>
  <dc:language>en-US</dc:language>
  <cp:lastModifiedBy>PIE</cp:lastModifiedBy>
  <dcterms:modified xsi:type="dcterms:W3CDTF">1999-06-21T21:48:53Z</dcterms:modified>
  <cp:revision>44</cp:revision>
  <dc:subject/>
  <dc:title>Comarques de Catalunya :</dc:title>
</cp:coreProperties>
</file>