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8C6-8309-4839-8D6E-6EF5C6EF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A34-596F-4192-B940-50C4CAD9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2E0-2B99-49C7-B3E2-72098177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46B-7BE3-43FD-88D8-F0B2B1DD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913-59EF-4E1A-9AC9-CA8D5475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6B3-504C-4EBA-BAD1-89F53559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507-4AC0-4B78-A543-AA541C48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57A-D051-4BF6-809C-2AAAEBFB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9B9-C047-45C2-96AE-B2A82E20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ACC-CB58-42EA-8F8E-A07991D3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971-315E-4B04-8536-61BB2707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264-2797-4C1A-8FA5-8A6BD7C5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5C70-4243-477C-A5F3-81D41AFFA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00"/>
                </a:solidFill>
                <a:latin typeface="Arial"/>
              </a:rPr>
              <a:t>La Nutrició i l’ Alimentaci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cc99"/>
                </a:solidFill>
                <a:latin typeface="Times New Roman"/>
              </a:rPr>
              <a:t>Ciències de la Natural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0000"/>
                </a:solidFill>
                <a:latin typeface="Arial"/>
              </a:rPr>
              <a:t>Els nutrients i les seves funcions</a:t>
            </a: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Les funcions bàsiques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Aportar l’energia necessària per al bon funcionament de l’organis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Aportar els materials necessaris per la formació de noves estructures corpo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Intervenir en la regulació de totes les reaccions que tenen lloc al 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aliments s’agrupen en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Glúcids o hidrats de carbo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Lípids o greix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Vitam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Elements mine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Ai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glúci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La principal funció dels glúcids és la producció d’ener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Monosacàrids: glucosa, fructuosa i galac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Disacàrids: sacarosa, lactosa i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Polisacàrids: midó, glicogen i cel·lul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grei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Els greixos són nutrients rics en energia  i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d’origen anim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carn de porc, xai, ànec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d’origen vege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olives, avellanes,soia,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Les proteï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66"/>
                </a:solidFill>
                <a:latin typeface="Times New Roman"/>
              </a:rPr>
              <a:t>Les proteïnes són uns nutrients fonamentals que l’organisme utilitza per forma les seves e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57600" y="3079800"/>
            <a:ext cx="5029200" cy="3778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75960" y="4029120"/>
            <a:ext cx="26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9933"/>
                </a:solidFill>
                <a:latin typeface="Times New Roman"/>
              </a:rPr>
              <a:t>Estructura d’u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9933"/>
                </a:solidFill>
                <a:latin typeface="Times New Roman"/>
              </a:rPr>
              <a:t>proteïn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Les vit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Les vitamines són nutrients que regulen el matabolísme hum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Es divideixen en dos gr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liposolubles : A, D, E,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hidrosolubles: B, C,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min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Els minerals són nutrients inorgànics que desenvolupen tres tipus de funci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formen una part important de certes estructures del 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són components de líquids orgàn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actuen com a reguladors de reacc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L’ai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66"/>
                </a:solidFill>
                <a:latin typeface="Times New Roman"/>
              </a:rPr>
              <a:t>L’aigua és el component fonamental dels éssers v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276360" cy="291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373392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La molécula d’aigu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6T10:19:44Z</dcterms:created>
  <dc:creator>Sr. Carlos &amp; Famili</dc:creator>
  <dc:description/>
  <dc:language>en-US</dc:language>
  <cp:lastModifiedBy>PIE</cp:lastModifiedBy>
  <dcterms:modified xsi:type="dcterms:W3CDTF">1998-07-06T09:52:40Z</dcterms:modified>
  <cp:revision>5</cp:revision>
  <dc:subject/>
  <dc:title>La Nutrició i la Alimentació</dc:title>
</cp:coreProperties>
</file>