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ARPEGIO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148D-7331-4EB9-BAA3-CA8DCBCF3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EBB2-A3D3-4F9A-A3AE-66B65A89D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5F13-340B-4FD0-AF35-E36120EAF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2557-BE75-4F59-8F6F-4DD4F74AA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0800-9147-4222-A0C3-2C294ADE6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B56B-0F77-408C-9304-0AA891659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E701-5544-4F12-B435-102851C50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F17B-2E75-47F6-9B01-6D9C6F6A5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1887-E5B9-4B26-AE46-5BDB0DCA3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967C-EC59-4086-BF38-007275139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329D-4641-452F-A607-865C33181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D156-2CA0-44E6-BCB6-45D5BC5D4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1D655-2D6C-4C93-9EC1-2391743305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ARPEGIO.WAV" TargetMode="External"/><Relationship Id="rId2" Type="http://schemas.microsoft.com/office/2007/relationships/media" Target="file:///tmp/home/.config/libreoffice/4/user/gallery/ARPEGIO.WAV" TargetMode="External"/><Relationship Id="rId3" Type="http://schemas.openxmlformats.org/officeDocument/2006/relationships/image" Target="../media/image1.png"/><Relationship Id="rId4" Type="http://schemas.openxmlformats.org/officeDocument/2006/relationships/audio" Target="../media/ARPEGIO.WAV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6477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600" spc="-1" strike="noStrike">
                <a:solidFill>
                  <a:srgbClr val="0066ff"/>
                </a:solidFill>
                <a:latin typeface="Tahoma"/>
              </a:rPr>
              <a:t>La Nutrició i l’Alimentaci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66320" y="1828800"/>
            <a:ext cx="3505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8080"/>
                </a:solidFill>
                <a:latin typeface="Times New Roman"/>
              </a:rPr>
              <a:t>Ciències de la Naturale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38080" y="457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  <p:sndAc>
      <p:stSnd>
        <p:snd r:embed="rId4" name="ARPEGIO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000000"/>
                </a:solidFill>
                <a:latin typeface="Times New Roman"/>
              </a:rPr>
              <a:t>Els nutrients i les seves funcion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Times New Roman"/>
              </a:rPr>
              <a:t>Les funcions bàsiques só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Times New Roman"/>
              </a:rPr>
              <a:t>Aportar l’energia necessària per al bon funcionament de l’organis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Times New Roman"/>
              </a:rPr>
              <a:t>Aportar els materials necessaris per a la formació de noves estructures corpora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Times New Roman"/>
              </a:rPr>
              <a:t>Intervenir en la regulació de totes les reaccions que tenen lloc al c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000000"/>
                </a:solidFill>
                <a:latin typeface="Times New Roman"/>
              </a:rPr>
              <a:t>Els aliments s’agrupen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Times New Roman"/>
              </a:rPr>
              <a:t>Glúcids o hidrats de carbo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Times New Roman"/>
              </a:rPr>
              <a:t>Lípids o greix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Times New Roman"/>
              </a:rPr>
              <a:t>Vitami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Times New Roman"/>
              </a:rPr>
              <a:t>Elements miner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Times New Roman"/>
              </a:rPr>
              <a:t>Aigu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000000"/>
                </a:solidFill>
                <a:latin typeface="Times New Roman"/>
              </a:rPr>
              <a:t>Els glúci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Times New Roman"/>
              </a:rPr>
              <a:t>La principal funció dels glúcids és la producció d’energi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1840" indent="-2854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Times New Roman"/>
              </a:rPr>
              <a:t>Monosacàrids: glucosa, fructuosa i galactos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1840" indent="-2854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Times New Roman"/>
              </a:rPr>
              <a:t>Disacàrids: sacarosa, lactosa i maltos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1840" indent="-2854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Times New Roman"/>
              </a:rPr>
              <a:t>Polisacàrids: midó, glicogen i cel·lulos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000000"/>
                </a:solidFill>
                <a:latin typeface="Times New Roman"/>
              </a:rPr>
              <a:t>Els greix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Times New Roman"/>
              </a:rPr>
              <a:t>Els greixos són nutrients rics en energia  i só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Times New Roman"/>
              </a:rPr>
              <a:t>d’origen animal: carn de porc, xai, ànec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Times New Roman"/>
              </a:rPr>
              <a:t>d’origen vegetal: olives, avellanes, soja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000000"/>
                </a:solidFill>
                <a:latin typeface="Times New Roman"/>
              </a:rPr>
              <a:t>Les proteï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Times New Roman"/>
              </a:rPr>
              <a:t>Les proteïnes són uns nutrients fonamentals que l’organisme utilitza per formar les seves estructu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000000"/>
                </a:solidFill>
                <a:latin typeface="Times New Roman"/>
              </a:rPr>
              <a:t>Les vitami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Times New Roman"/>
              </a:rPr>
              <a:t>Les vitamines són nutrients que regulen el metabolísme humà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24776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Times New Roman"/>
              </a:rPr>
              <a:t>Es divideixen en dos grup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24776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Times New Roman"/>
              </a:rPr>
              <a:t>liposolubles : A, D, E, 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24776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Times New Roman"/>
              </a:rPr>
              <a:t>hidrosolubles: B, C, 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000000"/>
                </a:solidFill>
                <a:latin typeface="Times New Roman"/>
              </a:rPr>
              <a:t>Els miner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spcBef>
                <a:spcPts val="799"/>
              </a:spcBef>
              <a:buNone/>
              <a:tabLst>
                <a:tab algn="l" pos="0"/>
                <a:tab algn="l" pos="1133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Times New Roman"/>
              </a:rPr>
              <a:t>Els minerals són nutrients inorgànics que desenvolupen tres tipus de func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0">
              <a:spcBef>
                <a:spcPts val="799"/>
              </a:spcBef>
              <a:buNone/>
              <a:tabLst>
                <a:tab algn="l" pos="0"/>
                <a:tab algn="l" pos="1133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200340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133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Times New Roman"/>
              </a:rPr>
              <a:t>formen una part important de certes estructures del c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200340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133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Times New Roman"/>
              </a:rPr>
              <a:t>són components de líquids orgànic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200340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133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Times New Roman"/>
              </a:rPr>
              <a:t>actuen com a reguladors de reacc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000000"/>
                </a:solidFill>
                <a:latin typeface="Times New Roman"/>
              </a:rPr>
              <a:t>L’aigu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8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Times New Roman"/>
              </a:rPr>
              <a:t>L’aigua és el component fonamental dels éssers viu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01T22:40:22Z</dcterms:created>
  <dc:creator>Sr. Carlos &amp; Famili</dc:creator>
  <dc:description/>
  <dc:language>en-US</dc:language>
  <cp:lastModifiedBy>Esteve Campins</cp:lastModifiedBy>
  <dcterms:modified xsi:type="dcterms:W3CDTF">2003-06-30T16:42:34Z</dcterms:modified>
  <cp:revision>11</cp:revision>
  <dc:subject/>
  <dc:title>La Nutrició i la Alimentació</dc:title>
</cp:coreProperties>
</file>