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91AB-F1F3-4AE6-BC98-83A38BC7C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4DC7-9380-453D-ADE6-E51C0EBA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360D-8964-4518-8504-7F61D599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1F51-9C60-484E-B7F6-17B91554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D8F8-9046-4E38-A708-207238A18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47F5-62E5-4607-94D3-BEEC260B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4678-6141-4142-8027-E7B81842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C846-198B-4466-9E2C-CB595E97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A8CB-8F8B-4E1F-BA46-4102D8FB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3DD0-AD0B-4EE2-85E5-F5052325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201E-E39D-4652-9435-C4E3D5F8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091D-7E1C-4842-ACD8-AB6305F7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E431-C42A-4DA4-9912-50998D72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C5C9-04F7-4C88-8362-E0B73128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8C5D-8BD7-47A0-9701-5E6C1CEC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4D41-7E28-4FB8-8215-44823CBB4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F60D-FD15-4C99-B9A6-BDE5100DF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E7C3-3013-4A31-A835-0DF9C7CB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26BC-63A4-4617-AD86-65350B4B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F099-F6FA-40E9-B32D-C3C296AD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C6B5-F288-4A42-A132-7A048B5B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45B1-DE66-4D78-9CE9-C56476B7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3D70-8D36-435B-8474-507152F7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6B6D-4898-4C14-99C3-55FD7A1D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C1F2-211B-4956-BFE0-E5885254E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CB8E-370E-4BA7-8C7C-A7211D4DE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14600" y="533520"/>
            <a:ext cx="4343400" cy="3657600"/>
          </a:xfrm>
          <a:prstGeom prst="star5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9999"/>
                </a:solidFill>
                <a:latin typeface="Verdana"/>
              </a:rPr>
              <a:t>LA C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9072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Tratado constitutivo de la Comunidad Económica Europea.</a:t>
            </a:r>
            <a:r>
              <a:rPr b="0" lang="ca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cee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57200" y="447840"/>
            <a:ext cx="8229600" cy="59623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9999"/>
                </a:solidFill>
                <a:latin typeface="Verdana"/>
              </a:rPr>
              <a:t>LA C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3520" y="4038480"/>
          <a:ext cx="8074080" cy="179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038480"/>
                    <a:ext cx="8074080" cy="17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07:45:45Z</dcterms:created>
  <dc:creator>Esteve Campins</dc:creator>
  <dc:description/>
  <dc:language>en-US</dc:language>
  <cp:lastModifiedBy>Esteve Campins</cp:lastModifiedBy>
  <dcterms:modified xsi:type="dcterms:W3CDTF">2004-03-02T15:21:04Z</dcterms:modified>
  <cp:revision>11</cp:revision>
  <dc:subject/>
  <dc:title>LA CEE</dc:title>
</cp:coreProperties>
</file>