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CB8-956D-42D3-B953-40F556B7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E64-7F07-4BD9-9FBE-4377ED62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511-4AA5-455C-B246-08A2BD6C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722-F557-4622-8480-546D6655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AAC-E9DA-404B-B5CF-55C7CEB6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DBE-4B88-4F5E-951A-4175CEC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AC7-5EF8-4B14-AE35-F6F12699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D12-D6B0-40EB-9F1E-7EA560D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E4F-48F1-48D5-B7F2-904B7BD3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CCF-7508-47C9-933C-129E9C88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916-855B-4D0A-BAF1-879F04A1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C93-4DC8-4BA0-8EEF-13BE149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5D15-9E5B-406F-B817-AA7E5395E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0066"/>
                </a:solidFill>
                <a:latin typeface="Mistral"/>
              </a:rPr>
              <a:t>Els principis inmedia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66"/>
                </a:solidFill>
                <a:latin typeface="Times New Roman"/>
              </a:rPr>
              <a:t>Func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3333cc"/>
                </a:solidFill>
                <a:uFillTx/>
                <a:latin typeface="Trebuchet MS"/>
              </a:rPr>
              <a:t>Les funcions bàsiques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66"/>
                </a:solidFill>
                <a:latin typeface="Arial Narrow"/>
              </a:rPr>
              <a:t>Aportar l'energia necessària per al bon funcionament de l'organ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66"/>
                </a:solidFill>
                <a:latin typeface="Arial Narrow"/>
              </a:rPr>
              <a:t>Aportar els materials necessaris per a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66"/>
                </a:solidFill>
                <a:latin typeface="Arial Narrow"/>
              </a:rPr>
              <a:t>Intervenir en la regulació de totes les reaccions que tenen lloc al cos.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7:50:29Z</dcterms:created>
  <dc:creator>Esteve Campins</dc:creator>
  <dc:description>Funcions bàsiques dels principis inmediats.</dc:description>
  <dc:language>en-US</dc:language>
  <cp:lastModifiedBy>Esteve Campins</cp:lastModifiedBy>
  <dcterms:modified xsi:type="dcterms:W3CDTF">2002-11-11T18:10:40Z</dcterms:modified>
  <cp:revision>2</cp:revision>
  <dc:subject/>
  <dc:title>Els principis inmediats</dc:title>
</cp:coreProperties>
</file>