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A98D-A313-4E63-9FF0-5EAC7022918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19320" y="4419720"/>
            <a:ext cx="4495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Diapositiva de portada. Títol, nivell i curs a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FE9-B81A-4787-B8B8-235777BE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7A1-81EA-4FA1-BFC8-5F9C8197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6C5-B267-49CF-BE0A-3FEF45B8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827-CC72-4901-B798-6B2C58C5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CC5-D6CD-4815-9BDF-AE9B776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55D-8466-4E01-893F-199BC789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830-C4FB-4538-B872-B5E40932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0B4-C7DC-4CC5-9882-EFC3009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E20-2680-459F-B197-CC41E90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E80-EC1D-44ED-BA63-FF1D8109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D8C-0364-43B0-8DD5-81002FE5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BFB-56C3-4624-B7CE-19B1B2F9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3A3B-722A-4603-9A3B-313F66269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tipo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1773360" cy="234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10666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99ff"/>
                </a:solidFill>
                <a:latin typeface="Trebuchet MS"/>
              </a:rPr>
              <a:t>Iniciació a la Informà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99ff"/>
                </a:solidFill>
                <a:latin typeface="Trebuchet MS"/>
              </a:rPr>
              <a:t>4ESO - 2003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675440"/>
            <a:ext cx="5334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3366cc"/>
                </a:solidFill>
                <a:latin typeface="Tahoma"/>
              </a:rPr>
              <a:t>Unitats didàctiq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3200040"/>
            <a:ext cx="609588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Sistemes operat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Unitats locals i xarxes d’ordinad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Gestió de bases de 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Disseny de continguts multimè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El full de càlc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3366cc"/>
                </a:solidFill>
                <a:latin typeface="Trebuchet MS"/>
              </a:rPr>
              <a:t>La xarxa Int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9:12:00Z</dcterms:created>
  <dc:creator>Esteve Campins</dc:creator>
  <dc:description/>
  <dc:language>en-US</dc:language>
  <cp:lastModifiedBy>Esteve Campins</cp:lastModifiedBy>
  <dcterms:modified xsi:type="dcterms:W3CDTF">2003-06-27T09:55:41Z</dcterms:modified>
  <cp:revision>1</cp:revision>
  <dc:subject/>
  <dc:title>Sin título de diapositiva</dc:title>
</cp:coreProperties>
</file>