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76E-B344-41D4-8CB0-89E91E67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10B-9ACF-4379-847F-C932BCBD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3EE-0F4A-4006-8393-BE638962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F9C-E5CB-4DD4-90A6-7A52820E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900-368C-4D8E-9FF3-CBC6B749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37D7-DCCD-421E-A388-A678661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686-FBAD-4A98-9435-B7B7B13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5A1C-81C1-4A3C-AFC6-FB8041B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59C1-CB0E-4DF8-B66E-2ECA7F51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A631-170C-47F1-ABF9-16657FD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6426-FEDA-4ED5-9019-75C6680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C43-8B2C-4191-9C3B-7DD5A83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1C07-B06A-4DAD-80DD-029D6FCE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0561-D9C9-40E8-A8AE-AC48DEB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36AA-1FDF-400E-B79D-30837164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BEAA-1580-4864-BF2C-92E6EF3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4B0B-BAEC-48B1-928E-46E6089A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5BE-EB42-4FC4-91E0-98B6D55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A41-772D-48B6-A55C-00DE375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DFD-FA4F-4773-8F13-791736B8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ADE-1FCA-46EA-B624-1662265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F92-701C-464B-9597-FCABDEC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8F7-5D47-4823-B94C-9945C5F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A02-4C76-475F-9F7C-F303202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A47-9CAB-479B-808A-0C132B7BA85B}" type="slidenum"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 Black"/>
              </a:rPr>
              <a:t>¡NO</a:t>
            </a:r>
            <a:br>
              <a:rPr sz="2800"/>
            </a:br>
            <a:r>
              <a:rPr b="0" lang="es-ES" sz="2800" spc="-1" strike="noStrike">
                <a:solidFill>
                  <a:srgbClr val="ccecff"/>
                </a:solidFill>
                <a:latin typeface="Arial Black"/>
              </a:rPr>
              <a:t>FALTE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1956-912E-4EA8-9FA9-109D346AEF01}" type="slidenum">
              <a:rPr b="0" lang="es-E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 Black"/>
              </a:rPr>
              <a:t>Windows 98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Algunas características del sistema operativo de Microsoft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 Black"/>
              </a:rPr>
              <a:t>NOMBRE DEL EVENTO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Hora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Fecha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Lugar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Más información importante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cbcb"/>
                </a:solidFill>
                <a:latin typeface="Arial Black"/>
              </a:rPr>
              <a:t>material necesario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bcbcb"/>
                </a:solidFill>
                <a:latin typeface="Arial Black"/>
              </a:rPr>
              <a:t>instrucciones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bcbcb"/>
                </a:solidFill>
                <a:latin typeface="Arial Black"/>
              </a:rPr>
              <a:t>Teléfono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7:13Z</dcterms:created>
  <dc:creator>Esteve Campins</dc:creator>
  <dc:description/>
  <dc:language>en-US</dc:language>
  <cp:lastModifiedBy>Esteve Campins</cp:lastModifiedBy>
  <dcterms:modified xsi:type="dcterms:W3CDTF">2003-06-27T10:33:07Z</dcterms:modified>
  <cp:revision>1</cp:revision>
  <dc:subject/>
  <dc:title>Windows 98</dc:title>
</cp:coreProperties>
</file>