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66D-DB0B-4140-968F-CFF71774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36D-6F40-4A36-8810-1B03A560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421-9AD1-4A50-8E57-AD03BE20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3CC-B69B-4C13-80F8-DC19F92F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E91-C280-4295-BD8D-997DDC93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66B-28BE-4596-8B5F-91692805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6A8-AF9F-4F7E-BD4B-AE8D0F4D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0F4-29FE-42FC-BB77-BA7B9502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4C2-0E9E-4E0E-BAD2-7BC36F92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E88-54D5-43B9-94AD-6D002833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105-4528-4713-AA3B-72988325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3D8-3E61-49B5-9040-82937716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D6A8-EF27-447F-BDF6-29E4FBC4B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1087560"/>
          <a:ext cx="6477120" cy="4854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87560"/>
                    <a:ext cx="64771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7:46:15Z</dcterms:created>
  <dc:creator>Esteve Campins</dc:creator>
  <dc:description/>
  <dc:language>en-US</dc:language>
  <cp:lastModifiedBy>Esteve Campins</cp:lastModifiedBy>
  <dcterms:modified xsi:type="dcterms:W3CDTF">2004-01-22T17:56:20Z</dcterms:modified>
  <cp:revision>3</cp:revision>
  <dc:subject/>
  <dc:title>Sin título de diapositiva</dc:title>
</cp:coreProperties>
</file>