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1B4-3F75-4AAC-84E9-E642AC9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4F9-E0AF-4E19-8681-A46841C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954-8DC8-4164-9B9F-3F920A2F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E7F-05C9-45E7-97AC-39D3601C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49E-00FC-4B2C-A46A-AA81E1B6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571-48F5-45D6-BCCD-8A4EE45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089-39E7-4326-AAA1-FBFD924F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596C-836C-458F-8C43-48DA950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ECEB-DD35-4D2E-BAB4-FDCD69F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56B9-9B5C-41B9-91E2-CC33048D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59A1-48C4-4F1F-A635-1A5ADC9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F1E-3D7F-42DD-96D1-D2B1D7D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7301-B249-477B-B168-6ABABD0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28C8-1951-4920-A1FC-3C11001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5F6-EB39-411E-9628-C70C0DD4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607-71A7-4718-9FC2-9385298D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2C0-7779-4153-9428-99D222AF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784-6E99-44FA-85FA-82AD9C31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46E-6D59-4EF5-9A3C-BB87C45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9E0-6415-4E66-AF5F-F16C330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1BF-4FB5-4F1F-94C7-EA9DD9BD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A2-2C29-4611-A5B8-96765F2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9F4-4661-4EE6-9FAA-0E85728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D35-DFF2-4A89-B2B0-2CC11C2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2DB-0BF0-4881-AF6A-87E7145AD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322-FE10-4841-B9F4-B24F40D52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Presentació del Cu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Matèria optativa pels alumnes de 4Eso que no facin Tecnolog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Totes les sessions a l’aula Informàti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ues hores lectives setman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Grups ( màx. 2 alumnes per ordinador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Introducció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Objectius de la matè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nual Alum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Unitats did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Qualificacions i avaluaci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Grups de tre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Materials en format dig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Arxius de pràctiq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imes New Roman"/>
              </a:rPr>
              <a:t>Demostracions i dubtes personalitz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cbcbcb"/>
                </a:solidFill>
                <a:latin typeface="Times New Roman"/>
              </a:rPr>
              <a:t>Metodologia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7:03:33Z</dcterms:created>
  <dc:creator>Esteve Campins</dc:creator>
  <dc:description/>
  <dc:language>en-US</dc:language>
  <cp:lastModifiedBy>Esteve Campins</cp:lastModifiedBy>
  <dcterms:modified xsi:type="dcterms:W3CDTF">2003-06-28T08:52:47Z</dcterms:modified>
  <cp:revision>4</cp:revision>
  <dc:subject/>
  <dc:title>Presentació del Curs</dc:title>
</cp:coreProperties>
</file>