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6E-5D93-4285-A3CB-332024CD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DCB-BBCA-4E84-96C2-D4A9D2EC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9DB-3A3D-4265-B6E5-E11A87B9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270-B9FC-4EBA-8711-76A72CCE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366C-6D1E-4BC6-9454-9BF015A2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E2D5-081A-4BE9-A999-572C8089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6CA-9C9B-4999-82F0-5C5678E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66E4-F0FD-42E4-A0DA-EFBD1CFE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BD6D-33E8-44CD-8BD5-D191EF13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A37E-99C7-4D81-ADEC-7541232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FDFC-A7C5-4793-8CE3-D4604DD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F88-8AAA-46D8-A5D9-2529902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8C9C-8E4F-48FA-B5C2-EDF8992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EB0-2BF1-475B-B24D-1E8F56B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AE8E-9DAE-4EE1-A57B-315FC83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F9DF-8AFB-419A-A9D6-8C9485EC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9CD2-3AA6-48D9-BD98-E413712D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02F-19DF-4484-8D6C-488394E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05B-7F7E-48B5-A1DD-41845226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F77-05C4-400A-BB87-31B9C944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8D2-79F2-47D0-BA70-1F7EF797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DCB-BC47-4263-9021-D954223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EEF-0769-4AD0-8BCA-AA9EC0C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2AE-4116-465E-9500-9F8D9BE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543D-21A3-4002-8CC2-C46A583C2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2D8E-BBD0-4A52-B705-31187D2DB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666880"/>
            <a:ext cx="6400800" cy="228600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990720"/>
            <a:ext cx="56386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99"/>
                </a:solidFill>
                <a:latin typeface="Tahoma"/>
              </a:rPr>
              <a:t>B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ffff"/>
                </a:solidFill>
                <a:latin typeface="Tahoma"/>
              </a:rPr>
              <a:t>Tu tienda de Informàt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762120"/>
            <a:ext cx="3810240" cy="137160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276720"/>
            <a:ext cx="5791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Ofertas del 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589a"/>
                </a:solidFill>
                <a:uFillTx/>
                <a:latin typeface="Trebuchet MS"/>
              </a:rPr>
              <a:t>Cursil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209680" y="38098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286000" y="33526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209680" y="4267080"/>
            <a:ext cx="228600" cy="304920"/>
          </a:xfrm>
          <a:prstGeom prst="irregularSeal1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3124080"/>
            <a:ext cx="5791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Orden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Complem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Configur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589a"/>
                </a:solidFill>
                <a:uFillTx/>
                <a:latin typeface="Trebuchet MS"/>
              </a:rPr>
              <a:t>Servicio téc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beep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2514600" cy="1549440"/>
          </a:xfrm>
          <a:prstGeom prst="rect">
            <a:avLst/>
          </a:prstGeom>
          <a:ln w="0">
            <a:noFill/>
          </a:ln>
        </p:spPr>
      </p:pic>
      <p:pic>
        <p:nvPicPr>
          <p:cNvPr id="110" name="logo_beep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05320" y="2057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589a"/>
                </a:solidFill>
                <a:latin typeface="Trebuchet MS"/>
              </a:rPr>
              <a:t>© Tu tienda de Informà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486400" y="4495680"/>
            <a:ext cx="1828800" cy="99072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12408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Pentium 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Tarjeta de sonido en pl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CD rom + DV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HDD 7200 rp 90 G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buClr>
                <a:srgbClr val="00589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589a"/>
                </a:solidFill>
                <a:latin typeface="Trebuchet MS"/>
              </a:rPr>
              <a:t>128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logo_beep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05320" y="20574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589a"/>
                </a:solidFill>
                <a:latin typeface="Trebuchet MS"/>
              </a:rPr>
              <a:t>© Tu tienda de Informà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Tahoma"/>
              </a:rPr>
              <a:t>830</a:t>
            </a:r>
            <a:r>
              <a:rPr b="0" lang="ca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Eur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00600" y="327672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Sistemas Operativos. Win X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Microsoft 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Progra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589a"/>
                </a:solidFill>
                <a:latin typeface="Trebuchet MS"/>
              </a:rPr>
              <a:t>Diseño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019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000">
                <a:solidFill>
                  <a:srgbClr val="ffffff"/>
                </a:solidFill>
                <a:latin typeface="Arial"/>
              </a:rPr>
              <a:t>ME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_beep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1600200" cy="50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625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589a"/>
                </a:solidFill>
                <a:latin typeface="Trebuchet MS"/>
              </a:rPr>
              <a:t>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ursos" descr=""/>
          <p:cNvPicPr/>
          <p:nvPr/>
        </p:nvPicPr>
        <p:blipFill>
          <a:blip r:embed="rId2"/>
          <a:stretch/>
        </p:blipFill>
        <p:spPr>
          <a:xfrm>
            <a:off x="1523880" y="2900520"/>
            <a:ext cx="2362320" cy="26510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685800" y="5867280"/>
            <a:ext cx="914400" cy="533520"/>
          </a:xfrm>
          <a:prstGeom prst="ellipse">
            <a:avLst/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6:38:39Z</dcterms:created>
  <dc:creator>Esteve Campins</dc:creator>
  <dc:description/>
  <dc:language>en-US</dc:language>
  <cp:lastModifiedBy>Esteve Campins</cp:lastModifiedBy>
  <dcterms:modified xsi:type="dcterms:W3CDTF">2004-03-02T18:28:27Z</dcterms:modified>
  <cp:revision>13</cp:revision>
  <dc:subject/>
  <dc:title>Sin título de diapositiva</dc:title>
</cp:coreProperties>
</file>