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4560-4EDB-4FDB-B392-903F2F581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73D6-7E7D-4B67-942A-BDA8D0ACD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D5A3-D5A9-4BCA-A0A4-539FD3573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8B9D-4E07-4BB7-B05F-9CC1FFC0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446E-1FC5-4641-A9D3-017D49979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7B5F-4C1C-430D-994C-96345FC7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B16-C92C-4F69-8066-A1672DD3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98F-BE2A-4234-AB2C-D7850AC0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AB4-9A2E-4427-BACC-3352DC01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2F98-A51C-40E0-912B-5CDB852E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0CB4-8304-4F7D-A0F8-3C3E807A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42E0-E041-484D-8391-8E82AE5A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05E4-3AAB-441D-8B38-9EF1CDF91E0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99"/>
                </a:solidFill>
                <a:latin typeface="Trebuchet MS"/>
              </a:rPr>
              <a:t>Bases de dades amb Ac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a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base de dad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és un fitxer que conté dades relacionades d'una activitat, d’una empresa, entitat pública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 exemple, la base de dades de tots els </a:t>
            </a: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pacient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d’un Hospit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33560" y="2433600"/>
            <a:ext cx="288612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Formular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 formularis permeten introduir o veure dades fàcil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en i simplifiquen la l’entrada de dades, que es guarden a la taula corresponent de la base de dad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011840" cy="2264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E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infor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en les dades e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cu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 informes adopten diferents formes, estan pensats per a  presentar les dades en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t imprè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és conveni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0" y="1787400"/>
            <a:ext cx="3745080" cy="3708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99"/>
                </a:solidFill>
                <a:latin typeface="Trebuchet MS"/>
              </a:rPr>
              <a:t>Web</a:t>
            </a:r>
            <a:r>
              <a:rPr b="0" lang="ca-E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a-ES" sz="4400" spc="-1" strike="noStrike">
                <a:solidFill>
                  <a:srgbClr val="333399"/>
                </a:solidFill>
                <a:latin typeface="Trebuchet MS"/>
              </a:rPr>
              <a:t>dinà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Una pàgina d’accés a dades es una web que està directament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connectada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a una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 dades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i que permet compartir-la amb altres usuaris de la xarx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Els usuaris actualitzen o consulten les dades dins una intranet o a la Xarxa Internet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3240360" cy="3208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Avantatges d’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de les principals avantatges del programa és que evita les complicacions d’emprar un munt de llistes en arxius difer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2886120" cy="2857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reball amb A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Per una llista senzilla de preus, segurament n’hi ha prou amb un full, ... una llista amb vinyetes o una taula d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Si les dades </a:t>
            </a:r>
            <a:r>
              <a:rPr b="0" lang="ca-ES" sz="2400" spc="-1" strike="noStrike" u="sng">
                <a:solidFill>
                  <a:srgbClr val="000000"/>
                </a:solidFill>
                <a:uFillTx/>
                <a:latin typeface="Arial"/>
              </a:rPr>
              <a:t>son més complexes o canvien constantment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, és molt més eficient una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a-ES" sz="2400" spc="-1" strike="noStrike">
                <a:solidFill>
                  <a:srgbClr val="000000"/>
                </a:solidFill>
                <a:latin typeface="Arial"/>
              </a:rPr>
              <a:t>dades</a:t>
            </a:r>
            <a:r>
              <a:rPr b="0" lang="ca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219640" y="2021040"/>
            <a:ext cx="331308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aule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0" y="155736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s un conjunt de dades organitzades en files i colu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fila és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formació de cada individ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 columna és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ada característica dels individ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219560" cy="3194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aul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relacion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rea bases de dad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o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 dades estan dins taules però es relacionen i es combinen segons el que ens interessi en el disseny de la base de dad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5819760" y="2955960"/>
            <a:ext cx="1695600" cy="181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Les relac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relac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vinculen les dades de las distintes taules para que ens siguin més út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671640" cy="2544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11280" y="4724280"/>
            <a:ext cx="475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4869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 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ca-ES" sz="1800" spc="-1" strike="noStrike">
                <a:solidFill>
                  <a:srgbClr val="000000"/>
                </a:solidFill>
                <a:latin typeface="Arial"/>
              </a:rPr>
              <a:t>camp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(1 )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id. de empleado apareix a les 2 taules, com a clau principal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   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...y 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Arial"/>
              </a:rPr>
              <a:t>(2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a-ES" sz="1800" spc="-1" strike="noStrike">
                <a:solidFill>
                  <a:srgbClr val="000000"/>
                </a:solidFill>
                <a:latin typeface="Arial"/>
              </a:rPr>
              <a:t>com a clau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Objec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d’un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95280" y="1600200"/>
            <a:ext cx="46911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bases d’ Access estan formades per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a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enen  les dades en filles i columnes. Totes les bases contenen una o més tau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consul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cuperen i processen les dades. Poden  combinar dades de diferents taules, actualitzar les dades i  fer càlculs amb aquestes dad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mulari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trolen l’entrada de dades i la forma en que es veuen. Proporcionen també indicacions que simplifiquen la fei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nform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sumeixen i també permeten imprimir llistats personalitzats de dades que considerem important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1700280"/>
            <a:ext cx="2886120" cy="28573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 flipH="1" flipV="1">
            <a:off x="2556000" y="4292640"/>
            <a:ext cx="1511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842920" y="2421000"/>
            <a:ext cx="115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Treball amb fines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39408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finestra de la base ens mostra la llista d’objectes disponibles a la base de da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284720" y="2060640"/>
            <a:ext cx="4176720" cy="36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rebuchet MS"/>
              </a:rPr>
              <a:t>Les consul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58920" y="1700280"/>
            <a:ext cx="368316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 a respondre preguntes, les consultes recuperen, filtren, ordenen i associen les 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és,  poden  combinar les dades de varies taules en una sola vista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421000"/>
            <a:ext cx="4392720" cy="1930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4T17:57:49Z</dcterms:created>
  <dc:creator>Esteve Campins</dc:creator>
  <dc:description/>
  <dc:language>en-US</dc:language>
  <cp:lastModifiedBy>Esteve Campins</cp:lastModifiedBy>
  <dcterms:modified xsi:type="dcterms:W3CDTF">2006-01-04T19:34:31Z</dcterms:modified>
  <cp:revision>13</cp:revision>
  <dc:subject/>
  <dc:title>Bases de dades amb Access</dc:title>
</cp:coreProperties>
</file>