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222-5E6D-4320-81E9-A3EF1AED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781-891A-4297-AE8B-A7C713AC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891-F4B7-4E6E-BC22-13110C32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E4C-0E1D-4BA9-8A4B-E25B1BE7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205-14D9-4B78-8366-E9AAFAF2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AEC-2A3C-4163-8841-399018F9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2C6-1DAA-4E57-86EF-FFE01531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EAB-54FF-431B-AA73-68784FE5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E74-48D5-4EE7-B168-B7F5E56D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86F-B92B-4DA2-96C9-F4A503EB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77C-F67E-4D2E-92D0-4806AA4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16D-2446-4A7F-ABF1-6313A85B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F8C4-A912-4B26-9FA8-2CB51917B4B7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overn de les Illes Bal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5050"/>
                </a:solidFill>
                <a:latin typeface="Arial"/>
              </a:rPr>
              <a:t>XXè Aniversari de l’Estatut d’Autonomia</a:t>
            </a:r>
            <a:r>
              <a:rPr b="1" lang="ca-ES" sz="3200" spc="-1" strike="noStrike">
                <a:solidFill>
                  <a:srgbClr val="ff505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7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overn de les Illes Bal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2708280"/>
            <a:ext cx="590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Instituc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Societat i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Econom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His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5616720" cy="56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1557360"/>
            <a:ext cx="4392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Les persones que formam part de les Illes Balears ocupam un territori que comprè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Un espai físic format per illes i ill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Un paisatge característic de cada una d'aquestes illes i ill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Una demografia que correspon a la gent que vivim sempre en aquestes illes i també a la gent que ens vis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Uns transports i comunicacions que feim servir per relacionar-nos amb la gent i els pobles d'aquí i els de fora d'aqu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333399"/>
                </a:solidFill>
                <a:latin typeface="Arial"/>
              </a:rPr>
              <a:t>I una ordenació territorial que fa que les nostres illes siguin habitables i respectuoses amb el medi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34:32Z</dcterms:created>
  <dc:creator>Esteve Campins</dc:creator>
  <dc:description/>
  <dc:language>en-US</dc:language>
  <cp:lastModifiedBy>Esteve Campins</cp:lastModifiedBy>
  <dcterms:modified xsi:type="dcterms:W3CDTF">2006-12-27T07:58:06Z</dcterms:modified>
  <cp:revision>2</cp:revision>
  <dc:subject/>
  <dc:title>Diapositiva 1</dc:title>
</cp:coreProperties>
</file>