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BA20-BE92-46AA-8A47-A74BABDD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6AD2-EC48-4189-BAC5-3254DD14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AF8B-DAEB-4892-845B-9B0C81AF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C66-67CC-4E14-9E4D-7DB079C1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1ED-71AD-45B4-86F8-1C04B2B5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75C-B8AC-4B94-9291-F12A2B17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F98-458B-4526-B257-2F8B58A2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CB8-29BE-4A45-B859-281F3970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290-0B33-496B-9E40-DCF8E430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E88-7D6E-44A7-99E0-0D652FBA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BA35-4915-4E89-9265-97052546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126-8418-418E-8179-8856CF77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7AB7-B6F2-4CA0-86E4-97FB05FE1F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Trebuchet MS"/>
              </a:rPr>
              <a:t>Bases de dades amb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a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ase de dad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és un fitxer que conté dades relacionades d'una activitat, d’una empresa, entitat públic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 exemple, la base de dades de tots els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acie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d’un Hospit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33560" y="2433600"/>
            <a:ext cx="2886120" cy="285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Formul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 formularis permeten introduir o veure dades fàcil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n i simplifiquen la l’entrada de dades, que es guarden a la taula corresponent de la base de dad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011840" cy="226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infor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en les dades 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 informes adopten diferents formes, estan pensats per a  presentar les dades en 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 imprè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és conveni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1787400"/>
            <a:ext cx="3745080" cy="37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99"/>
                </a:solidFill>
                <a:latin typeface="Trebuchet MS"/>
              </a:rPr>
              <a:t>Web</a:t>
            </a:r>
            <a:r>
              <a:rPr b="0" lang="ca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4400" spc="-1" strike="noStrike">
                <a:solidFill>
                  <a:srgbClr val="333399"/>
                </a:solidFill>
                <a:latin typeface="Trebuchet MS"/>
              </a:rPr>
              <a:t>dinà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Una pàgina d’accés a dades es una web que està directament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connectada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a una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de dades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i que permet compartir-la amb altres usuaris de la xarx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Els usuaris actualitzen o consulten les dades dins una intranet o a la Xarxa Internet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3240360" cy="320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Avantatges d’A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de les principals avantatges del programa és que evita les complicacions d’emprar un munt de llistes en arxius difer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2886120" cy="285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Treball amb A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Per una llista senzilla de preus, segurament n’hi ha prou amb un full, ... una llista amb vinyetes o una taula d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Si les dades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son més complexes o canvien constantment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, és molt més eficient una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dades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19640" y="2021040"/>
            <a:ext cx="331308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Taule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u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és un conjunt de dades organitzades en files i colum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fila és 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formació de cada individ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columna és 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ada característica dels individ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219560" cy="319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Tau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relacion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crea bases de dad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o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dades estan dins taules però es relacionen i es combinen segons el que ens interessi en el disseny de la base de da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19760" y="2955960"/>
            <a:ext cx="1695600" cy="181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Les relac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 relac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inculen les dades de las distintes taules para que ens siguin més úti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3671640" cy="2544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1280" y="472428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48690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 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camp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(1 )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id. de empleado apareix a les 2 taules, com a clau principal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  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...y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(2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om a clau ex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Objec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d’un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bases d’ Access estan formades pe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a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enen  les dades en filles i columnes. Totes les bases contenen una o més ta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nsul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cuperen i processen les dades. Poden  combinar dades de diferents taules, actualitzar les dades i  fer càlculs amb aquestes 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mular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rolen l’entrada de dades i la forma en que es veuen. Proporcionen també indicacions que simplifiquen la fei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for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sumeixen i també permeten imprimir llistats personalitzats de dades que considerem importa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2886120" cy="2857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 flipV="1">
            <a:off x="2556000" y="4292640"/>
            <a:ext cx="1511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842920" y="2421000"/>
            <a:ext cx="115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Treball amb fines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finestra de la base ens mostra la llista d’objectes disponibles a la base de da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284720" y="2060640"/>
            <a:ext cx="4176720" cy="36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Les consul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58920" y="1700280"/>
            <a:ext cx="368316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a respondre preguntes, les consultes recuperen, filtren, ordenen i associen les 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és,  poden  combinar les dades de varies taules en una sola vist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4392720" cy="193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17:57:49Z</dcterms:created>
  <dc:creator>Esteve Campins</dc:creator>
  <dc:description/>
  <dc:language>en-US</dc:language>
  <cp:lastModifiedBy>Esteve Campins</cp:lastModifiedBy>
  <dcterms:modified xsi:type="dcterms:W3CDTF">2006-01-04T19:34:31Z</dcterms:modified>
  <cp:revision>13</cp:revision>
  <dc:subject/>
  <dc:title>Bases de dades amb Access</dc:title>
</cp:coreProperties>
</file>