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3B5-0BDB-410A-924C-484362E7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E82-0DE9-44E3-A71A-898B377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2EC-CF13-42F2-8166-2D36CC59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1AE-B707-403B-8B39-BDDE7365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381-725D-4027-813F-D46347E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221-64E2-422A-9A18-1C3FA92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822-84EE-4F31-A748-3E9E5BF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1C2-CFAE-4D60-B974-0E3431A5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644-BD99-43B2-B71D-9574D60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3C-615D-4DD7-95C7-53B626A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FA4-DB46-406F-9E0B-975B503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2F9-718A-4DD8-AAFD-C0F788E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30B-8FD5-435D-A126-B367FD00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00"/>
                </a:solidFill>
                <a:latin typeface="Arial"/>
              </a:rPr>
              <a:t>La Nutrició i l’ Aliment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cc99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0000"/>
                </a:solidFill>
                <a:latin typeface="Arial"/>
              </a:rPr>
              <a:t>Els nutrients i les seves funcions</a:t>
            </a: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els materials necessaris per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aliments s’agrupen en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Glúcids o hidrats de carbo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Lípids o greix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Vitam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Elements mi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Ai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lúc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Monosacàrids: glucosa, fructuosa i gala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Disacàrids: sacarosa, lactosa i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Polisacàrids: midó, glicogen i cel·lul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anim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carn de porc, xai, ànec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vege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olives, avellanes,soia,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es proteïnes són uns nutrients fonamentals que l’organisme utilitza per forma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079800"/>
            <a:ext cx="5029200" cy="377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5960" y="402912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Estructura d’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proteïn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Les vitamines són nutrients que regulen el ma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minerals són nutrients inorgànics que desenvolupen tres tipus de fun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276360" cy="291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733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molécula d’aigu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10:19:44Z</dcterms:created>
  <dc:creator>Sr. Carlos &amp; Famili</dc:creator>
  <dc:description/>
  <dc:language>en-US</dc:language>
  <cp:lastModifiedBy>PIE</cp:lastModifiedBy>
  <dcterms:modified xsi:type="dcterms:W3CDTF">1998-07-06T09:52:40Z</dcterms:modified>
  <cp:revision>5</cp:revision>
  <dc:subject/>
  <dc:title>La Nutrició i la Alimentació</dc:title>
</cp:coreProperties>
</file>