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A61-5FAF-4E73-BB9A-CF687B6A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DEE-224E-4F01-9BBA-6A97B4FB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4EA-88F7-48BF-926E-F1CA77DE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AED-4197-41C0-9083-C5EEDB9C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15F-F921-48A5-BE90-22767E37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26C7-A08C-425F-AFE4-13B456AF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6FB-0593-4AF6-9C29-BC62B335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BEF-CC56-4CBA-AE37-2EB4535B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527-CCB8-4D60-8D0C-D6ED2F91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A0D-FDBC-46D9-9E75-014315D1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008-A0D5-4FE3-BA69-6DA4DB37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992-C6FD-45E5-A894-CE94F38A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6158-EAD4-4257-BD09-A164143FD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udwing van Beeth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1770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657600" y="3124080"/>
          <a:ext cx="214488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124080"/>
                    <a:ext cx="214488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loss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990720"/>
            <a:ext cx="876312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Minuet 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ansa francesa, de tres temps, que apareix al s XVII que acaba adaptant-se a la sonata clàss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Opus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terme emprat per molts compositors per indicar la posició cronològica de cada obra dins llur producció mus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Quartet :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composició musical per a quatre instruments o v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Simfonia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Composició per a orques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Sonata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Composició instrumental per a solista o per a petit conjunt de cam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5943600" y="380880"/>
            <a:ext cx="2590920" cy="609840"/>
          </a:xfrm>
          <a:custGeom>
            <a:avLst/>
            <a:gdLst>
              <a:gd name="textAreaLeft" fmla="*/ 66600 w 2590920"/>
              <a:gd name="textAreaRight" fmla="*/ 2524320 w 2590920"/>
              <a:gd name="textAreaTop" fmla="*/ 66600 h 609840"/>
              <a:gd name="textAreaBottom" fmla="*/ 543240 h 609840"/>
            </a:gdLst>
            <a:ahLst/>
            <a:rect l="textAreaLeft" t="textAreaTop" r="textAreaRight" b="textAreaBottom"/>
            <a:pathLst>
              <a:path w="91727" h="21600">
                <a:moveTo>
                  <a:pt x="0" y="0"/>
                </a:moveTo>
                <a:lnTo>
                  <a:pt x="91727" y="0"/>
                </a:lnTo>
                <a:lnTo>
                  <a:pt x="91727" y="21600"/>
                </a:lnTo>
                <a:lnTo>
                  <a:pt x="0" y="21600"/>
                </a:lnTo>
                <a:close/>
              </a:path>
              <a:path fill="lightenLess" w="91727" h="21600">
                <a:moveTo>
                  <a:pt x="0" y="0"/>
                </a:moveTo>
                <a:lnTo>
                  <a:pt x="91727" y="0"/>
                </a:lnTo>
                <a:lnTo>
                  <a:pt x="89364" y="2363"/>
                </a:lnTo>
                <a:lnTo>
                  <a:pt x="2363" y="2363"/>
                </a:lnTo>
                <a:close/>
              </a:path>
              <a:path fill="darken" w="91727" h="21600">
                <a:moveTo>
                  <a:pt x="91727" y="0"/>
                </a:moveTo>
                <a:lnTo>
                  <a:pt x="91727" y="21600"/>
                </a:lnTo>
                <a:lnTo>
                  <a:pt x="89364" y="19237"/>
                </a:lnTo>
                <a:lnTo>
                  <a:pt x="89364" y="2363"/>
                </a:lnTo>
                <a:close/>
              </a:path>
              <a:path fill="darkenLess" w="91727" h="21600">
                <a:moveTo>
                  <a:pt x="91727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89364" y="19237"/>
                </a:lnTo>
                <a:close/>
              </a:path>
              <a:path fill="lighten" w="91727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ullir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nt d’informa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material que s’ha utilitzat per confeccionar aquesta presentació s’ha extret de l’Enciclopèdia Microsoft Encarta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scull un 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3200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1295280" y="2362320"/>
            <a:ext cx="2971800" cy="106668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0165" h="21600">
                <a:moveTo>
                  <a:pt x="0" y="0"/>
                </a:moveTo>
                <a:lnTo>
                  <a:pt x="60165" y="0"/>
                </a:lnTo>
                <a:lnTo>
                  <a:pt x="60165" y="21600"/>
                </a:lnTo>
                <a:lnTo>
                  <a:pt x="0" y="21600"/>
                </a:lnTo>
                <a:close/>
              </a:path>
              <a:path fill="lightenLess" w="60165" h="21600">
                <a:moveTo>
                  <a:pt x="0" y="0"/>
                </a:moveTo>
                <a:lnTo>
                  <a:pt x="60165" y="0"/>
                </a:lnTo>
                <a:lnTo>
                  <a:pt x="58765" y="1400"/>
                </a:lnTo>
                <a:lnTo>
                  <a:pt x="1400" y="1400"/>
                </a:lnTo>
                <a:close/>
              </a:path>
              <a:path fill="darken" w="60165" h="21600">
                <a:moveTo>
                  <a:pt x="60165" y="0"/>
                </a:moveTo>
                <a:lnTo>
                  <a:pt x="60165" y="21600"/>
                </a:lnTo>
                <a:lnTo>
                  <a:pt x="58765" y="20200"/>
                </a:lnTo>
                <a:lnTo>
                  <a:pt x="58765" y="1400"/>
                </a:lnTo>
                <a:close/>
              </a:path>
              <a:path fill="darkenLess" w="60165" h="21600">
                <a:moveTo>
                  <a:pt x="60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65" y="20200"/>
                </a:lnTo>
                <a:close/>
              </a:path>
              <a:path fill="lighten" w="60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La sev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295280" y="4038480"/>
            <a:ext cx="2971800" cy="106704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0145" h="21600">
                <a:moveTo>
                  <a:pt x="0" y="0"/>
                </a:moveTo>
                <a:lnTo>
                  <a:pt x="60145" y="0"/>
                </a:lnTo>
                <a:lnTo>
                  <a:pt x="60145" y="21600"/>
                </a:lnTo>
                <a:lnTo>
                  <a:pt x="0" y="21600"/>
                </a:lnTo>
                <a:close/>
              </a:path>
              <a:path fill="lightenLess" w="60145" h="21600">
                <a:moveTo>
                  <a:pt x="0" y="0"/>
                </a:moveTo>
                <a:lnTo>
                  <a:pt x="60145" y="0"/>
                </a:lnTo>
                <a:lnTo>
                  <a:pt x="58745" y="1400"/>
                </a:lnTo>
                <a:lnTo>
                  <a:pt x="1400" y="1400"/>
                </a:lnTo>
                <a:close/>
              </a:path>
              <a:path fill="darken" w="60145" h="21600">
                <a:moveTo>
                  <a:pt x="60145" y="0"/>
                </a:moveTo>
                <a:lnTo>
                  <a:pt x="60145" y="21600"/>
                </a:lnTo>
                <a:lnTo>
                  <a:pt x="58745" y="20200"/>
                </a:lnTo>
                <a:lnTo>
                  <a:pt x="58745" y="1400"/>
                </a:lnTo>
                <a:close/>
              </a:path>
              <a:path fill="darkenLess" w="60145" h="21600">
                <a:moveTo>
                  <a:pt x="60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45" y="20200"/>
                </a:lnTo>
                <a:close/>
              </a:path>
              <a:path fill="lighten" w="60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La seva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6781680" y="5791320"/>
            <a:ext cx="1371600" cy="685800"/>
          </a:xfrm>
          <a:custGeom>
            <a:avLst/>
            <a:gdLst>
              <a:gd name="textAreaLeft" fmla="*/ 108360 w 1371600"/>
              <a:gd name="textAreaRight" fmla="*/ 1263240 w 1371600"/>
              <a:gd name="textAreaTop" fmla="*/ 108360 h 685800"/>
              <a:gd name="textAreaBottom" fmla="*/ 57744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39776" y="3413"/>
                </a:lnTo>
                <a:lnTo>
                  <a:pt x="3413" y="3413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39776" y="18187"/>
                </a:lnTo>
                <a:lnTo>
                  <a:pt x="39776" y="3413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3413" y="18187"/>
                </a:lnTo>
                <a:lnTo>
                  <a:pt x="39776" y="18187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3413" y="3413"/>
                </a:lnTo>
                <a:lnTo>
                  <a:pt x="3413" y="18187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Arial"/>
              </a:rPr>
              <a:t>Sort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 vida de Beeth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44576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Beethoven va néixer el 16 de Desembre del 1770 a Bonn (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lemany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). Anà a Viena a rebre lliçons de Mozart i posteriorment de Haydn. Ben aviat sobresortí pels seus dots de compositor i de pianista.</a:t>
            </a: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va influència sobre generacions venidores fou inesborrable, car promogué la transformació de la música occidental, de la qual és, potser, el compositor més representatiu. Va morir el 1827 a Viena (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Àustri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810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6520" y="2819160"/>
            <a:ext cx="35053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cc33"/>
                </a:solidFill>
                <a:latin typeface="Times New Roman"/>
              </a:rPr>
              <a:t>ALEMA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58760"/>
            <a:ext cx="9144000" cy="762624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362320"/>
            <a:ext cx="381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a seva o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981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’hi poden distingir tres fas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1143000" y="281952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770-1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1143000" y="411480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801-18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1143000" y="541008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815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343400" y="3276720"/>
          <a:ext cx="3809880" cy="254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4343400" y="3276720"/>
                    <a:ext cx="3809880" cy="2544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" name="">
            <a:hlinkClick r:id="rId6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Primera fase del 1770 al 1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99072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es seves obres no es distingeixen, formalment, de les de Haydn i de Mozart; les obres més destacables són les primere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onat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a piano, els dos primers concerts per a piano i orquestra, la primera simfonia, el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artet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opu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18, i el cèlebre Septet opus 20. Cap a la fi d’aquesta època se li manifestà la sordesa, que acabà esdevenint to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5715000"/>
            <a:ext cx="2895840" cy="762120"/>
          </a:xfrm>
          <a:custGeom>
            <a:avLst/>
            <a:gdLst>
              <a:gd name="textAreaLeft" fmla="*/ 104760 w 2895840"/>
              <a:gd name="textAreaRight" fmla="*/ 2791080 w 2895840"/>
              <a:gd name="textAreaTop" fmla="*/ 104760 h 762120"/>
              <a:gd name="textAreaBottom" fmla="*/ 657360 h 762120"/>
            </a:gdLst>
            <a:ahLst/>
            <a:rect l="textAreaLeft" t="textAreaTop" r="textAreaRight" b="textAreaBottom"/>
            <a:pathLst>
              <a:path w="82045" h="21600">
                <a:moveTo>
                  <a:pt x="0" y="0"/>
                </a:moveTo>
                <a:lnTo>
                  <a:pt x="82045" y="0"/>
                </a:lnTo>
                <a:lnTo>
                  <a:pt x="82045" y="21600"/>
                </a:lnTo>
                <a:lnTo>
                  <a:pt x="0" y="21600"/>
                </a:lnTo>
                <a:close/>
              </a:path>
              <a:path fill="lightenLess" w="82045" h="21600">
                <a:moveTo>
                  <a:pt x="0" y="0"/>
                </a:moveTo>
                <a:lnTo>
                  <a:pt x="82045" y="0"/>
                </a:lnTo>
                <a:lnTo>
                  <a:pt x="79075" y="2970"/>
                </a:lnTo>
                <a:lnTo>
                  <a:pt x="2970" y="2970"/>
                </a:lnTo>
                <a:close/>
              </a:path>
              <a:path fill="darken" w="82045" h="21600">
                <a:moveTo>
                  <a:pt x="82045" y="0"/>
                </a:moveTo>
                <a:lnTo>
                  <a:pt x="82045" y="21600"/>
                </a:lnTo>
                <a:lnTo>
                  <a:pt x="79075" y="18630"/>
                </a:lnTo>
                <a:lnTo>
                  <a:pt x="79075" y="2970"/>
                </a:lnTo>
                <a:close/>
              </a:path>
              <a:path fill="darkenLess" w="82045" h="21600">
                <a:moveTo>
                  <a:pt x="82045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79075" y="18630"/>
                </a:lnTo>
                <a:close/>
              </a:path>
              <a:path fill="lighten" w="82045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ep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Segona fase del 1801 al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14300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n la segona etapa reformà l’estructura clàssica de la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imfoni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substituint el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inuet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un scherzo que permetia una major llibertat en la composició. Entre el 1804 i el 1808 compongué quatre simfonies, de la Tercera a la Sisena. La Setena i la Vuitena aparegueren simultàniament l’any 1812.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5715000"/>
            <a:ext cx="3733560" cy="763560"/>
          </a:xfrm>
          <a:custGeom>
            <a:avLst/>
            <a:gdLst>
              <a:gd name="textAreaLeft" fmla="*/ 104760 w 3733560"/>
              <a:gd name="textAreaRight" fmla="*/ 3628800 w 3733560"/>
              <a:gd name="textAreaTop" fmla="*/ 104760 h 763560"/>
              <a:gd name="textAreaBottom" fmla="*/ 658800 h 763560"/>
            </a:gdLst>
            <a:ahLst/>
            <a:rect l="textAreaLeft" t="textAreaTop" r="textAreaRight" b="textAreaBottom"/>
            <a:pathLst>
              <a:path w="105577" h="21600">
                <a:moveTo>
                  <a:pt x="0" y="0"/>
                </a:moveTo>
                <a:lnTo>
                  <a:pt x="105577" y="0"/>
                </a:lnTo>
                <a:lnTo>
                  <a:pt x="105577" y="21600"/>
                </a:lnTo>
                <a:lnTo>
                  <a:pt x="0" y="21600"/>
                </a:lnTo>
                <a:close/>
              </a:path>
              <a:path fill="lightenLess" w="105577" h="21600">
                <a:moveTo>
                  <a:pt x="0" y="0"/>
                </a:moveTo>
                <a:lnTo>
                  <a:pt x="105577" y="0"/>
                </a:lnTo>
                <a:lnTo>
                  <a:pt x="102608" y="2970"/>
                </a:lnTo>
                <a:lnTo>
                  <a:pt x="2970" y="2970"/>
                </a:lnTo>
                <a:close/>
              </a:path>
              <a:path fill="darken" w="105577" h="21600">
                <a:moveTo>
                  <a:pt x="105577" y="0"/>
                </a:moveTo>
                <a:lnTo>
                  <a:pt x="105577" y="21600"/>
                </a:lnTo>
                <a:lnTo>
                  <a:pt x="102608" y="18630"/>
                </a:lnTo>
                <a:lnTo>
                  <a:pt x="102608" y="2970"/>
                </a:lnTo>
                <a:close/>
              </a:path>
              <a:path fill="darkenLess" w="105577" h="21600">
                <a:moveTo>
                  <a:pt x="105577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102608" y="18630"/>
                </a:lnTo>
                <a:close/>
              </a:path>
              <a:path fill="lighten" w="105577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tena simf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Tercera fase del 1815 al 1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5715000"/>
            <a:ext cx="4038480" cy="762120"/>
          </a:xfrm>
          <a:custGeom>
            <a:avLst/>
            <a:gdLst>
              <a:gd name="textAreaLeft" fmla="*/ 104760 w 4038480"/>
              <a:gd name="textAreaRight" fmla="*/ 3933720 w 4038480"/>
              <a:gd name="textAreaTop" fmla="*/ 104760 h 762120"/>
              <a:gd name="textAreaBottom" fmla="*/ 65736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1445" y="2970"/>
                </a:lnTo>
                <a:lnTo>
                  <a:pt x="2970" y="297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1445" y="18630"/>
                </a:lnTo>
                <a:lnTo>
                  <a:pt x="111445" y="297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111445" y="1863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Novena Simfon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29528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n l’última fase de la seva vida, creà les darrere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onat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a piano, com la Hammerklavier,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opu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106, els últims i aleshores incompreso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quartet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a Gran Fuga per a corda, opus 133, la Missa Solemnis en re major i la Novena Simfo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8T09:41:30Z</dcterms:created>
  <dc:creator>Sr. Carlos &amp; Famili</dc:creator>
  <dc:description/>
  <dc:language>en-US</dc:language>
  <cp:lastModifiedBy>Esteve Campins</cp:lastModifiedBy>
  <dcterms:modified xsi:type="dcterms:W3CDTF">2006-12-27T09:09:51Z</dcterms:modified>
  <cp:revision>24</cp:revision>
  <dc:subject/>
  <dc:title>Ludwing van Beetho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ls meus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