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93E-117D-4634-8278-165F6CE8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AF5F-3185-40CE-B18A-87478A2D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6387-B500-47AA-9DBB-6B0A7341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ABD-E0B2-4AF8-B06F-F7DCC531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0AF3-D59D-4E34-9520-01F4CD35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AE59-4DFB-4B35-8DB4-F32969E3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0EEB-95E0-448F-BA5E-071757B7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7B8F-D78E-4869-BA4C-81512F8E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FEC2-5231-427E-96DB-C30A50BD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1E1D-6DE5-47CE-9992-A05869B0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927E-6549-4115-980A-F88FC291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CCA-897B-427C-BD99-119A9014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BF5B-BFB7-4D99-9403-CD872BC1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AD6E-98D1-4DE4-8D10-8B145C0F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3DDF-559F-4777-B3BF-08CE5BB8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4994-7CF0-4601-9BA4-201A391C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4456-FDF0-4FD0-8711-852774C2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BBEA-8B13-487C-94B5-73A5F385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FE4-2F02-4C94-8927-97066BFD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E99-5E86-4BAF-A4AC-6CD7CF14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DE6-71CE-46F3-B2DE-792B3384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0BB-D3CC-40BA-8401-58CEE6EC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7A2-1DD5-4545-A0BB-921DD1A8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E5A-0B8E-4E4E-9EAC-D25259A8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7345-B530-4791-B3AA-77318ADC3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FACB-3B29-4E7D-850D-A788DF907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2666880"/>
            <a:ext cx="6400800" cy="2286000"/>
          </a:xfrm>
          <a:prstGeom prst="ellipse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990720"/>
            <a:ext cx="563868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99"/>
                </a:solidFill>
                <a:latin typeface="Tahoma"/>
              </a:rPr>
              <a:t>B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ffffff"/>
                </a:solidFill>
                <a:latin typeface="Tahoma"/>
              </a:rPr>
              <a:t>Tu tienda de Informàtic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762120"/>
            <a:ext cx="3810240" cy="1371600"/>
          </a:xfrm>
          <a:prstGeom prst="ellipse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3276720"/>
            <a:ext cx="57913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589a"/>
                </a:solidFill>
                <a:uFillTx/>
                <a:latin typeface="Trebuchet MS"/>
              </a:rPr>
              <a:t>Compon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589a"/>
                </a:solidFill>
                <a:uFillTx/>
                <a:latin typeface="Trebuchet MS"/>
              </a:rPr>
              <a:t>Ofertas del 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589a"/>
                </a:solidFill>
                <a:uFillTx/>
                <a:latin typeface="Trebuchet MS"/>
              </a:rPr>
              <a:t>Cursil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2209680" y="3809880"/>
            <a:ext cx="228600" cy="304920"/>
          </a:xfrm>
          <a:prstGeom prst="irregularSeal1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2286000" y="3352680"/>
            <a:ext cx="228600" cy="304920"/>
          </a:xfrm>
          <a:prstGeom prst="irregularSeal1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2209680" y="4267080"/>
            <a:ext cx="228600" cy="304920"/>
          </a:xfrm>
          <a:prstGeom prst="irregularSeal1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3124080"/>
            <a:ext cx="5791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 u="sng">
                <a:solidFill>
                  <a:srgbClr val="00589a"/>
                </a:solidFill>
                <a:uFillTx/>
                <a:latin typeface="Trebuchet MS"/>
              </a:rPr>
              <a:t>Orden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 u="sng">
                <a:solidFill>
                  <a:srgbClr val="00589a"/>
                </a:solidFill>
                <a:uFillTx/>
                <a:latin typeface="Trebuchet MS"/>
              </a:rPr>
              <a:t>Complemen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 u="sng">
                <a:solidFill>
                  <a:srgbClr val="00589a"/>
                </a:solidFill>
                <a:uFillTx/>
                <a:latin typeface="Trebuchet MS"/>
              </a:rPr>
              <a:t>Configur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 u="sng">
                <a:solidFill>
                  <a:srgbClr val="00589a"/>
                </a:solidFill>
                <a:uFillTx/>
                <a:latin typeface="Trebuchet MS"/>
              </a:rPr>
              <a:t>Servicio técn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6019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000">
                <a:solidFill>
                  <a:srgbClr val="ffffff"/>
                </a:solidFill>
                <a:latin typeface="Arial"/>
              </a:rPr>
              <a:t>ME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685800" y="5867280"/>
            <a:ext cx="914400" cy="533520"/>
          </a:xfrm>
          <a:prstGeom prst="ellipse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beep" descr=""/>
          <p:cNvPicPr/>
          <p:nvPr/>
        </p:nvPicPr>
        <p:blipFill>
          <a:blip r:embed="rId1"/>
          <a:stretch/>
        </p:blipFill>
        <p:spPr>
          <a:xfrm>
            <a:off x="4572000" y="3124080"/>
            <a:ext cx="2514600" cy="1549440"/>
          </a:xfrm>
          <a:prstGeom prst="rect">
            <a:avLst/>
          </a:prstGeom>
          <a:ln w="0">
            <a:noFill/>
          </a:ln>
        </p:spPr>
      </p:pic>
      <p:pic>
        <p:nvPicPr>
          <p:cNvPr id="110" name="logo_beep" descr=""/>
          <p:cNvPicPr/>
          <p:nvPr/>
        </p:nvPicPr>
        <p:blipFill>
          <a:blip r:embed="rId2"/>
          <a:stretch/>
        </p:blipFill>
        <p:spPr>
          <a:xfrm>
            <a:off x="2590920" y="1523880"/>
            <a:ext cx="1600200" cy="501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505320" y="20574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589a"/>
                </a:solidFill>
                <a:latin typeface="Trebuchet MS"/>
              </a:rPr>
              <a:t>© Tu tienda de Informà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6201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486400" y="4495680"/>
            <a:ext cx="1828800" cy="99072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124080"/>
            <a:ext cx="4114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lnSpc>
                <a:spcPct val="100000"/>
              </a:lnSpc>
              <a:spcBef>
                <a:spcPts val="1125"/>
              </a:spcBef>
              <a:buClr>
                <a:srgbClr val="00589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Pentium I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buClr>
                <a:srgbClr val="00589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Tarjeta de sonido en pl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buClr>
                <a:srgbClr val="00589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CD rom + DV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buClr>
                <a:srgbClr val="00589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HDD 7200 rp 90 G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buClr>
                <a:srgbClr val="00589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589a"/>
                </a:solidFill>
                <a:latin typeface="Trebuchet MS"/>
              </a:rPr>
              <a:t>128 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6019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000">
                <a:solidFill>
                  <a:srgbClr val="ffffff"/>
                </a:solidFill>
                <a:latin typeface="Arial"/>
              </a:rPr>
              <a:t>ME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logo_beep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1600200" cy="501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505320" y="20574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589a"/>
                </a:solidFill>
                <a:latin typeface="Trebuchet MS"/>
              </a:rPr>
              <a:t>© Tu tienda de Informà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76201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Tahoma"/>
              </a:rPr>
              <a:t>830</a:t>
            </a:r>
            <a:r>
              <a:rPr b="0" lang="ca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Eur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685800" y="5867280"/>
            <a:ext cx="914400" cy="533520"/>
          </a:xfrm>
          <a:prstGeom prst="ellipse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800600" y="3276720"/>
            <a:ext cx="3657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Sistemas Operativos. Win X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Microsoft Off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Progra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Diseño w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6019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000">
                <a:solidFill>
                  <a:srgbClr val="ffffff"/>
                </a:solidFill>
                <a:latin typeface="Arial"/>
              </a:rPr>
              <a:t>ME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logo_beep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1600200" cy="501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62520" y="2057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589a"/>
                </a:solidFill>
                <a:latin typeface="Trebuchet MS"/>
              </a:rPr>
              <a:t>Cur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cursos" descr=""/>
          <p:cNvPicPr/>
          <p:nvPr/>
        </p:nvPicPr>
        <p:blipFill>
          <a:blip r:embed="rId2"/>
          <a:stretch/>
        </p:blipFill>
        <p:spPr>
          <a:xfrm>
            <a:off x="1523880" y="2900520"/>
            <a:ext cx="2362320" cy="265104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685800" y="5867280"/>
            <a:ext cx="914400" cy="533520"/>
          </a:xfrm>
          <a:prstGeom prst="ellipse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9T16:38:39Z</dcterms:created>
  <dc:creator>Esteve Campins</dc:creator>
  <dc:description/>
  <dc:language>en-US</dc:language>
  <cp:lastModifiedBy>Esteve Campins</cp:lastModifiedBy>
  <dcterms:modified xsi:type="dcterms:W3CDTF">2004-03-02T18:28:27Z</dcterms:modified>
  <cp:revision>13</cp:revision>
  <dc:subject/>
  <dc:title>Sin título de diapositiva</dc:title>
</cp:coreProperties>
</file>