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4623-200F-42F2-93B4-8996AACCB84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9320" y="44197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 de portada. Títol, nivell i curs a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746-BB9E-49B6-A883-B88E99D0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361-3616-41EC-9821-70D11757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4C0-0942-42B6-A2B4-64B4D7FE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9DE-A334-43D5-918B-7DCF5492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E1A-315F-45C3-9BF3-634BFC51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CFA-72A2-420F-9BC8-C3D99C8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DFA-AA21-43ED-A5F2-7E6E562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93D-B03E-43AA-8CFE-1357098C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DFD-023B-4A53-83AD-A0522CD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B78-3E47-4CD5-8F1A-F2ED9E52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707-56A3-44C5-ADC6-50B519E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44C-B559-4693-802A-02FB639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2EA-5681-4819-B304-B6A4AF95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tip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773360" cy="234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10666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99ff"/>
                </a:solidFill>
                <a:latin typeface="Trebuchet MS"/>
              </a:rPr>
              <a:t>Iniciació a la Informà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99ff"/>
                </a:solidFill>
                <a:latin typeface="Trebuchet MS"/>
              </a:rPr>
              <a:t>4ESO -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675440"/>
            <a:ext cx="5334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366cc"/>
                </a:solidFill>
                <a:latin typeface="Tahoma"/>
              </a:rPr>
              <a:t>Unitats didàctiq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3200040"/>
            <a:ext cx="609588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Sistemes operat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Unitats locals i xarxes d’ordinad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Gestió de bases de 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Disseny de continguts multimè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El full de càlc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La xarxa 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9:12:00Z</dcterms:created>
  <dc:creator>Esteve Campins</dc:creator>
  <dc:description/>
  <dc:language>en-US</dc:language>
  <cp:lastModifiedBy>Esteve Campins</cp:lastModifiedBy>
  <dcterms:modified xsi:type="dcterms:W3CDTF">2003-06-27T09:55:41Z</dcterms:modified>
  <cp:revision>1</cp:revision>
  <dc:subject/>
  <dc:title>Sin título de diapositiva</dc:title>
</cp:coreProperties>
</file>