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CBB-2D0E-488B-962C-49CBBAC4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EAB-55D7-4300-AE66-F561DF4E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330-AA00-4CB2-8187-0AE681F3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F53-14DB-4736-A575-F19AEDCF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F902-B8CF-4831-9E5E-A180B24D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A5B6-1297-4BF9-94DD-02133DE4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3426-5696-4FE7-9932-DC715EF2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C109-E3D9-4D35-95C0-105BB065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4FDA-3FE1-4753-9B38-BE3B9706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A660-BB85-41DB-926F-11D2D9A2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B769-65D0-4BC2-AE1F-1BAB9CCD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9AB-563A-4BB5-91B9-17F73428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A5B5-3CEC-457A-A749-A654DD22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0110-1CB5-4329-8324-6505D797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5C34-7E42-48E8-9066-64CD250F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4E6D-663C-429E-BCB1-F06F3370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7CC8-B185-4F19-ADB9-E84B850A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E8DA-497F-4B12-9D91-07C8A6DF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ED1-6237-4C75-9BDE-829A046C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910-4639-4665-AC60-A2599C4F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8C32-A5D5-4206-8DF4-250425B1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0F62-636B-4CF8-A69E-87B4FCC2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57D-CE9D-4D67-93A8-DC13E238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793-C0FB-460F-A97D-91EECD9A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572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5000" y="1676520"/>
            <a:ext cx="8856720" cy="144360"/>
          </a:xfrm>
          <a:prstGeom prst="rect">
            <a:avLst/>
          </a:prstGeom>
          <a:solidFill>
            <a:srgbClr val="8381b3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1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3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3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447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616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858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572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1286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398680" y="1617840"/>
            <a:ext cx="2732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6719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9415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2130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4844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7544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B144-20C5-4D7B-BE2F-CE75BFA38238}" type="slidenum">
              <a:rPr b="0" lang="es-ES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0" y="19684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4027320" y="1617840"/>
            <a:ext cx="2718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42991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5687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8402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51116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3816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56530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592452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6194520" y="1617840"/>
            <a:ext cx="27288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46740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67374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7008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280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7550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8184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0899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6136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6313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 rot="1020000">
            <a:off x="6326280" y="1447560"/>
            <a:ext cx="2514600" cy="2590560"/>
          </a:xfrm>
          <a:custGeom>
            <a:avLst/>
            <a:gdLst>
              <a:gd name="textAreaLeft" fmla="*/ 573840 w 2514600"/>
              <a:gd name="textAreaRight" fmla="*/ 1940760 w 2514600"/>
              <a:gd name="textAreaTop" fmla="*/ 591120 h 2590560"/>
              <a:gd name="textAreaBottom" fmla="*/ 19994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8381b3"/>
          </a:solidFill>
          <a:ln cap="sq" w="12600">
            <a:solidFill>
              <a:srgbClr val="cbcbcb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Arial Black"/>
              </a:rPr>
              <a:t>¡NO</a:t>
            </a:r>
            <a:br>
              <a:rPr sz="2800"/>
            </a:br>
            <a:r>
              <a:rPr b="0" lang="es-ES" sz="2800" spc="-1" strike="noStrike">
                <a:solidFill>
                  <a:srgbClr val="ccecff"/>
                </a:solidFill>
                <a:latin typeface="Arial Black"/>
              </a:rPr>
              <a:t>FALTE!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1981080"/>
            <a:ext cx="9142560" cy="1371600"/>
            <a:chOff x="0" y="1981080"/>
            <a:chExt cx="9142560" cy="1371600"/>
          </a:xfrm>
        </p:grpSpPr>
        <p:sp>
          <p:nvSpPr>
            <p:cNvPr id="79" name=""/>
            <p:cNvSpPr/>
            <p:nvPr/>
          </p:nvSpPr>
          <p:spPr>
            <a:xfrm>
              <a:off x="0" y="3124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2514600"/>
              <a:ext cx="8534160" cy="30492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63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158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56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51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46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44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39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34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32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927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22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20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5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310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981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637C-6C74-4065-9969-C582AE5E1DC6}" type="slidenum">
              <a:rPr b="0" lang="es-ES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bcbcb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 Black"/>
              </a:rPr>
              <a:t>Windows 98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bcbcb"/>
                </a:solidFill>
                <a:latin typeface="Arial Black"/>
              </a:rPr>
              <a:t>Algunas características del sistema operativo de Microsoft.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 Black"/>
              </a:rPr>
              <a:t>NOMBRE DEL EVENTO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bcbcb"/>
                </a:solidFill>
                <a:latin typeface="Arial Black"/>
              </a:rPr>
              <a:t>Hora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bcbcb"/>
                </a:solidFill>
                <a:latin typeface="Arial Black"/>
              </a:rPr>
              <a:t>Fecha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bcbcb"/>
                </a:solidFill>
                <a:latin typeface="Arial Black"/>
              </a:rPr>
              <a:t>Lugar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bcbcb"/>
                </a:solidFill>
                <a:latin typeface="Arial Black"/>
              </a:rPr>
              <a:t>Más información importante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bcbcb"/>
                </a:solidFill>
                <a:latin typeface="Arial Black"/>
              </a:rPr>
              <a:t>material necesario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bcbcb"/>
                </a:solidFill>
                <a:latin typeface="Arial Black"/>
              </a:rPr>
              <a:t>instrucciones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bcbcb"/>
                </a:solidFill>
                <a:latin typeface="Arial Black"/>
              </a:rPr>
              <a:t>Teléfono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0:27:13Z</dcterms:created>
  <dc:creator>Esteve Campins</dc:creator>
  <dc:description/>
  <dc:language>en-US</dc:language>
  <cp:lastModifiedBy>Esteve Campins</cp:lastModifiedBy>
  <dcterms:modified xsi:type="dcterms:W3CDTF">2003-06-27T10:33:07Z</dcterms:modified>
  <cp:revision>1</cp:revision>
  <dc:subject/>
  <dc:title>Windows 98</dc:title>
</cp:coreProperties>
</file>