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3E4-CBD7-486B-8B17-73488C85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F76-F3BA-4294-80CD-406348D8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069-8E01-4434-9F33-D30B8A90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E11-2ED0-426C-B733-DB5DEE04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2C68-7053-4CC7-878C-FE99E7F6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E0A0-60B5-4166-B9B1-3B865CD8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02D7-14CD-4589-BDAD-BFEE43E5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8210-B748-4E00-9933-4C7550BE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0521-1181-4ECF-A9DD-449E173B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B00E-6502-45E1-A114-108C0013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A53E-B085-49C4-8025-D3218B6E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C98-428B-4CD7-927A-83B2129B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4A8A-C767-41A1-9C49-DA8AB43C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95AD-EB85-45CD-8237-A90F8882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0C20-1462-4196-8498-DEA5F66F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9A06-2E77-40B7-94E2-4C9CC1DF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518D-3850-47BD-A358-CDBCB6E4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9BC-3425-4857-9C17-DA63CD70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6FC-9F35-4443-A149-1C8F22C6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65D-8B0A-49AF-BC16-7DD0399D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11C-2C52-41DC-91A2-3748DD88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B61-EC73-4B0B-9F0C-2D3A0BAE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586-DBC1-47A0-B834-1F13CB31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87C-5336-4F21-B869-C7BB66C3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E645-9131-4762-B624-65EE315AB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193D-DA15-4ADE-9248-C86CBD482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cbcbcb"/>
                </a:solidFill>
                <a:latin typeface="Times New Roman"/>
              </a:rPr>
              <a:t>Presentació del Cu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Matèria optativa pels alumnes de 4Eso que no facin Tecnolog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Totes les sessions a l’aula Informàtic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Dues hores lectives setmana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Grups ( màx. 2 alumnes per ordinador 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cbcbcb"/>
                </a:solidFill>
                <a:latin typeface="Times New Roman"/>
              </a:rPr>
              <a:t>Introducció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Objectius de la matè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Manual Alum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Unitats didàctiq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Qualificacions i avaluaci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3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Grups de treb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Materials en format digi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Arxius de pràctiq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Demostracions i dubtes personalitza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cbcbcb"/>
                </a:solidFill>
                <a:latin typeface="Times New Roman"/>
              </a:rPr>
              <a:t>Metodologia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7:03:33Z</dcterms:created>
  <dc:creator>Esteve Campins</dc:creator>
  <dc:description/>
  <dc:language>en-US</dc:language>
  <cp:lastModifiedBy>Esteve Campins</cp:lastModifiedBy>
  <dcterms:modified xsi:type="dcterms:W3CDTF">2003-06-28T08:52:47Z</dcterms:modified>
  <cp:revision>4</cp:revision>
  <dc:subject/>
  <dc:title>Presentació del Curs</dc:title>
</cp:coreProperties>
</file>