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6BB-B876-4F8B-A59C-C0EED45A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AF4-F748-4FC9-A019-E2515B99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C55-9B19-4024-9695-BD61314F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6B4-1194-4AB9-AD96-0A181998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710-2BEC-4E30-9D51-EE9C148D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D95-409E-4B76-84AC-1E6139D6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B8A-97C6-4C5C-B4F5-4A7CAC8B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6CE-E9E8-4733-AF39-64BE4C1C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6C6-B76A-4C9F-84D3-3639714A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ABF-2A5E-43DC-B2B8-48A4BA3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F3D-C326-4595-8027-0D4075B7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F9E-5D46-4B23-A1A7-096A91E2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C298-6187-4DE7-9D20-3942AFEC8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00"/>
                </a:solidFill>
                <a:latin typeface="Arial"/>
              </a:rPr>
              <a:t>La Nutrició i l’ Alimentaci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cc99"/>
                </a:solidFill>
                <a:latin typeface="Times New Roman"/>
              </a:rPr>
              <a:t>Ciències de la Natural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0000"/>
                </a:solidFill>
                <a:latin typeface="Arial"/>
              </a:rPr>
              <a:t>Els nutrients i les seves funcions</a:t>
            </a: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Aportar l’energia necessària per al bon funcionament de l’organis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Aportar els materials necessaris per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Intervenir en la regulació de totes les reaccions que tenen lloc al 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aliments s’agrupen en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Glúcids o hidrats de carbo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Lípids o greix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Vitam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Elements mine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Ai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glúci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La principal funció dels glúcids és la producció d’ener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Monosacàrids: glucosa, fructuosa i gala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Disacàrids: sacarosa, lactosa i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Polisacàrids: midó, glicogen i cel·lul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grei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Els greixos són nutrients rics en energia  i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d’origen anim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carn de porc, xai, ànec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d’origen vege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olives, avellanes,soia,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es proteï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66"/>
                </a:solidFill>
                <a:latin typeface="Times New Roman"/>
              </a:rPr>
              <a:t>Les proteïnes són uns nutrients fonamentals que l’organisme utilitza per forma les seves e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57600" y="3079800"/>
            <a:ext cx="5029200" cy="3778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5960" y="4029120"/>
            <a:ext cx="26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9933"/>
                </a:solidFill>
                <a:latin typeface="Times New Roman"/>
              </a:rPr>
              <a:t>Estructura d’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9933"/>
                </a:solidFill>
                <a:latin typeface="Times New Roman"/>
              </a:rPr>
              <a:t>proteïn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es vit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Les vitamines són nutrients que regulen el matabolísme hum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Es divideixen en dos gr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liposolubles : A, D, E,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hidrosolubles: B, C,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min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Els minerals són nutrients inorgànics que desenvolupen tres tipus de funci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formen una part important de certes estructures de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són components de líquids orgàn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actuen com a reguladors de reacc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’ai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66"/>
                </a:solidFill>
                <a:latin typeface="Times New Roman"/>
              </a:rPr>
              <a:t>L’aigua és el component fonamental dels ésser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276360" cy="291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373392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La molécula d’aigu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6T10:19:44Z</dcterms:created>
  <dc:creator>Sr. Carlos &amp; Famili</dc:creator>
  <dc:description/>
  <dc:language>en-US</dc:language>
  <cp:lastModifiedBy>PIE</cp:lastModifiedBy>
  <dcterms:modified xsi:type="dcterms:W3CDTF">1998-07-06T09:52:40Z</dcterms:modified>
  <cp:revision>5</cp:revision>
  <dc:subject/>
  <dc:title>La Nutrició i la Alimentació</dc:title>
</cp:coreProperties>
</file>