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B7C-913C-453F-AAB4-3FD04C69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EA8-3452-4E8D-88E8-C22B8D7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CF7-4948-4EA1-980C-B1BBF692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086-FA94-43F2-963E-64EB6068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6C86-FFCC-4E96-8037-10C95952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745-984D-488C-8BBA-ABA0A90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795A-A13D-4480-9752-551CFCF7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CAFD-4CCE-4F9B-AE52-0628417B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361B-DAD4-4C6D-A9E7-0E8B5DA5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EEC3-7F92-4CC0-B34F-7779C9D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07C8-5F1E-47C0-B775-9C966AD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5E9-EE78-4FD0-863A-33DE8612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B79B-4CF3-4DCD-A367-9E30E4F1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F6EF-E551-4E7C-9B0A-68813159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D10D-B22A-46EA-840F-24BD522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E8D9-FF01-41D2-A37E-722B65F2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EC9B-D2B2-4F07-B63A-C7E34BA6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FC0-E22B-4F20-9C97-130D2732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387-FF4D-4B7F-A1D9-DEF7013D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52E-28CF-4157-921A-860DB48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71C-B408-480A-A856-20AB9AC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6AB-28D4-47C3-AD65-9A15B59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2D4-7A62-4C68-BB35-36E6982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CF5-3270-46A8-919B-BCA376C1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1CC1-C826-457A-8021-264972FBC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836A-4F7E-4D13-87BD-CC96B39B4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838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rebuchet MS"/>
              </a:rPr>
              <a:t>Materials 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523880"/>
            <a:ext cx="68580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80"/>
                </a:solidFill>
                <a:latin typeface="Trebuchet MS"/>
              </a:rPr>
              <a:t>Batxiller Ciències, Humanitats i Soc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0666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ffff"/>
                </a:solidFill>
                <a:latin typeface="Trebuchet MS"/>
              </a:rPr>
              <a:t>Curs 2002-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514600"/>
            <a:ext cx="78483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0099"/>
                </a:solidFill>
                <a:latin typeface="Trebuchet MS"/>
              </a:rPr>
              <a:t>La informàtica forma ja part de la nostra cultura moderna, de fet ja existeixen fenòmens relacionats amb ella que repercuteixen econòmica i socialment en les nostres relacions de manera important. La informàtica s'ha introduït de manera decisiva a diferents àmbits de la societat.</a:t>
            </a:r>
            <a:br>
              <a:rPr sz="1400"/>
            </a:br>
            <a:r>
              <a:rPr b="0" lang="ca-ES" sz="1400" spc="-1" strike="noStrike">
                <a:solidFill>
                  <a:srgbClr val="330099"/>
                </a:solidFill>
                <a:latin typeface="Trebuchet MS"/>
              </a:rPr>
              <a:t>L'existència de la gran quantitat d'informació que es produeix i es transmet cada dia al món fa necessari que es ciutadans desenvolupin capacitats que els permetin obtenir i seleccionar la informació d'acord amb les seves necessitats i tenir a la vegada elements d'anàlisi crític per valorar-la dins un context cada vegada més glob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logocentre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6858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cbcbcb"/>
                </a:solidFill>
                <a:latin typeface="Trebuchet MS"/>
              </a:rPr>
              <a:t>Objectius i Continguts programat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lvl="3" marL="1008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ffff"/>
                </a:solidFill>
                <a:latin typeface="Trebuchet MS"/>
              </a:rPr>
              <a:t>Objecti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Conèixer la incidència. de les tecnologies de la informació en la nostra societat, la seva evolució i el seu futu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Desenvolupar en l’alumnat una actitud positiva enfront el medi informàtic a través de l’adquisició de certes destreses que els capacitin per a una futura autoformació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Utilitzar correctament els conceptes i la terminologia, en llengua catalana, del món de la Informàtica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Entendre i usar correctament els elements bàsics d'interacció amb l’ordinador a través d'un sistema operatiu d'entorn gràfic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Conèixer el funcionament bàsic de les xarxes, explotar els recursos que ens ofereixen i capacitar a l’alumne per elaborar i compartir informació generada per ell mateix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Manejar amb fluïdesa les funcions avançades d'un programari d'autoedició i maquetació, essent capaç d'explotar-ne qualsevol amb l’ajut de la seva documentació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Conèixer i utilitzar correctament el programari per a la resolució de problemes de tipus numèric i estadístic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Entendre els conceptes bàsics del disseny de les bases de dades i capacitar a l’alumne per poder-les mantenir i explota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8000" indent="-14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Conèixer i utilitzar correctament el programari que permet integrar distints elements multimèdia, dissenyar presentacions i crear animacions.</a:t>
            </a:r>
            <a:r>
              <a:rPr b="0" lang="ca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384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3" marL="1445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ffff"/>
                </a:solidFill>
                <a:latin typeface="Trebuchet MS"/>
              </a:rPr>
              <a:t>Contingu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5760" indent="-205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Introducció als ordinadors. Conceptes gener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5760" indent="-205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EI processament de dades i la Informàtica. Evolució històrica de la Informàtica i tendències de fut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5760" indent="-205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La informaci6 digital. L'emmagatzemat de la informaci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5760" indent="-205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L'ordinador i els seus components. Els perifè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5760" indent="-205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Les xarxes d'ordinado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5760" indent="-205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EI programari. Tipus. Les aplicacions informàtiques de l’àmbit humanístic i socia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5760" indent="-205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rebuchet MS"/>
              </a:rPr>
              <a:t>Les persones. Noves professions derivades de l’ús dels ordinadors.</a:t>
            </a:r>
            <a:r>
              <a:rPr b="0" lang="ca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bcbcb"/>
                </a:solidFill>
                <a:latin typeface="Trebuchet MS"/>
              </a:rPr>
              <a:t>Unitats didàctiques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1. Conceptes General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2. Història de la Informàtica i les telecomunicac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3. Sistemes operatius, xarxes i components Pc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4. Edició digital de documen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5. Gestió de bases de dades. Disseny, formularis i llis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6. Aplicacions del full de càlcu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7. Les possibilitats de la multimèdi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8. La Xarxa Internet. Serveis i aplicac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Trebuchet MS"/>
              </a:rPr>
              <a:t>9. Treballs 3r trimest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8:20:20Z</dcterms:created>
  <dc:creator>Esteve Campins</dc:creator>
  <dc:description/>
  <dc:language>en-US</dc:language>
  <cp:lastModifiedBy>Esteve Campins</cp:lastModifiedBy>
  <dcterms:modified xsi:type="dcterms:W3CDTF">2002-11-12T19:32:10Z</dcterms:modified>
  <cp:revision>4</cp:revision>
  <dc:subject/>
  <dc:title>Sin título de diapositiva</dc:title>
</cp:coreProperties>
</file>