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210-4F1D-44BD-94D1-4692DF3D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3F0-1AAD-4329-ABA4-C1652C60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F6B-6667-428E-B0B2-96623EA2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D5C-FEB6-4D59-B1CF-1C0DDC84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E3C-1629-4296-97FB-8BBDF599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746-9676-44AF-8535-5486F6F5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A18-9831-4304-85F1-CE29DDF1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FDD-3788-4D99-A368-F272173B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B42-0FBE-4F2E-8A47-1B29EF4B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DAB-AFAB-4C99-B003-2A73BC3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020-6A0C-4502-BE14-4B678D0C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C53-0DE8-47DC-9D49-E7CC3841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57A-CFF8-4616-BE53-8795F8F39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a Nutrició i l’Aliment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Ciències de la Natural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nutrients i les seves func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funcions bàsiques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portar l’energia necessària per al bon funcionament de l’organis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portar els materials necessaris per a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Intervenir en la regulació de totes les reaccions que tenen lloc al 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aliments s’agrup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Glúcids o hidrats de carb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ípids o grei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Vitam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ements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i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glú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a principal funció dels glúcids és la producció d’ener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Monosacàrids: glucosa, fructuosa i galact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isacàrids: sacarosa, lactosa i malt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Polisacàrids: midó, glicogen i cel·lul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grei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s greixos són nutrients rics en energia  i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’origen animal: carn de porc, xai, àne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’origen vegetal: olives, avellanes, soj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proteï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proteïnes són uns nutrients fonamentals que l’organisme utilitza per formar les seves e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vit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vitamines són nutrients que regulen el metabolísme hum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Es divideixen en dos gr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liposolubles : A, D, E,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hidrosolubles: B, C,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min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s minerals són nutrients inorgànics que desenvolupen tres tipus de func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formen una part important de certes estructures del 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són components de líquids orgàn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actuen com a reguladors de reacc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’ai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’aigua és el component fonamental dels ésser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22:40:22Z</dcterms:created>
  <dc:creator>Sr. Carlos &amp; Famili</dc:creator>
  <dc:description/>
  <dc:language>en-US</dc:language>
  <cp:lastModifiedBy>Sr. Carlos &amp; Famili</cp:lastModifiedBy>
  <dcterms:modified xsi:type="dcterms:W3CDTF">1999-06-30T08:03:52Z</dcterms:modified>
  <cp:revision>10</cp:revision>
  <dc:subject/>
  <dc:title>La Nutrició i la Alimentació</dc:title>
</cp:coreProperties>
</file>