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PEGI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468-4B17-4483-90BD-46890684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D78-0E25-455E-A3DD-0F5FF2F5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395-03D7-42DD-8369-2AA0D726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289-CC46-4C84-AB66-053C6B61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50F-643C-4D16-985B-0E494DD9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7FF-32B0-48A0-A706-AC1FDDA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F5B-F816-4752-9054-70A0BC2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154-E2D5-4C1D-8CD6-613B5C1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274-4BB9-44BB-A76F-87915F7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087-DB7E-4F68-84A6-20A878B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A45-9C61-4BF8-B5EA-BFC9B721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6DD-F75B-406D-9B48-23C0892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DA9-CE78-47C9-AEEA-041457EB7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RPEGIO.WAV" TargetMode="External"/><Relationship Id="rId2" Type="http://schemas.microsoft.com/office/2007/relationships/media" Target="file:///tmp/home/.config/libreoffice/4/user/gallery/ARPEGI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ARPEGIO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66ff"/>
                </a:solidFill>
                <a:latin typeface="Tahoma"/>
              </a:rPr>
              <a:t>La Nutrició i l’Alimentaci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8080"/>
                </a:solidFill>
                <a:latin typeface="Times New Roman"/>
              </a:rPr>
              <a:t>Ciències de la Natura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ARPEGI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nutrients i les seves func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aliments s’agrup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Glúcids o hidrats de carb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ípids o gre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Vi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ements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i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lú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Monosacàrids: glucosa, fructuosa i galac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isacàrids: sacarosa, lactosa i mal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Polisacàrids: midó, glicogen i cel·lul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animal: carn de porc, xai, àne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vegetal: olives, avellanes, so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proteïnes són uns nutrients fonamentals que l’organisme utilitza per formar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vitamines són nutrients que regulen el me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minerals són nutrients inorgànics que desenvolupen tres tipus de func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22:40:22Z</dcterms:created>
  <dc:creator>Sr. Carlos &amp; Famili</dc:creator>
  <dc:description/>
  <dc:language>en-US</dc:language>
  <cp:lastModifiedBy>Esteve Campins</cp:lastModifiedBy>
  <dcterms:modified xsi:type="dcterms:W3CDTF">2003-06-30T16:42:34Z</dcterms:modified>
  <cp:revision>11</cp:revision>
  <dc:subject/>
  <dc:title>La Nutrició i la Alimentació</dc:title>
</cp:coreProperties>
</file>