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791-03EA-468F-BD76-64D1E835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C26-CFE6-428D-A226-96161CF0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697-60B0-40B6-85E2-D806C6AD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01D-1C74-48E2-916C-F956D684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332-EB8F-4311-8D05-1AADECD8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E13-9FF9-477B-8274-0BE2BBF5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B86-AC0B-4261-9EEC-64848812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A5A-52D0-4B75-9CBE-D33EA505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978-A9AF-4558-9FCA-4BD37C8B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359-3E47-4E5A-A2D7-DA25CCC0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82F-6796-4218-B897-38A848CF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7E3-0908-4488-9308-25186650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98CB-E0CD-434C-9B3C-0B09A8897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hyperlink" Target="C:\WINDOWS\WRITE.EXE pn.doc" TargetMode="External"/><Relationship Id="rId21" Type="http://schemas.openxmlformats.org/officeDocument/2006/relationships/image" Target="../media/image2.wmf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51814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9625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45720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86280" y="383544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19440" y="269244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8195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09960" y="147312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"/>
            <a:ext cx="60984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81560" y="170172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38760" y="261612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38760" y="391176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39625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81760" y="254016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1600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38862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2440" y="25401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152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5240" y="16257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27432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261612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09960" y="375912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05440" y="246384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33640" y="13971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62440" y="383544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5105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44956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5105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24080" y="5486400"/>
            <a:ext cx="2057400" cy="990720"/>
          </a:xfrm>
          <a:custGeom>
            <a:avLst/>
            <a:gdLst/>
            <a:ahLst/>
            <a:rect l="l" t="t" r="r" b="b"/>
            <a:pathLst>
              <a:path w="1296" h="624">
                <a:moveTo>
                  <a:pt x="96" y="0"/>
                </a:moveTo>
                <a:lnTo>
                  <a:pt x="0" y="480"/>
                </a:lnTo>
                <a:lnTo>
                  <a:pt x="288" y="576"/>
                </a:lnTo>
                <a:lnTo>
                  <a:pt x="672" y="624"/>
                </a:lnTo>
                <a:lnTo>
                  <a:pt x="1296" y="528"/>
                </a:lnTo>
                <a:lnTo>
                  <a:pt x="120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457200"/>
            <a:ext cx="4953240" cy="5283360"/>
          </a:xfrm>
          <a:custGeom>
            <a:avLst/>
            <a:gdLst/>
            <a:ahLst/>
            <a:rect l="l" t="t" r="r" b="b"/>
            <a:pathLst>
              <a:path w="3120" h="3328">
                <a:moveTo>
                  <a:pt x="120" y="3088"/>
                </a:moveTo>
                <a:cubicBezTo>
                  <a:pt x="200" y="3152"/>
                  <a:pt x="408" y="3056"/>
                  <a:pt x="600" y="3088"/>
                </a:cubicBezTo>
                <a:cubicBezTo>
                  <a:pt x="792" y="3120"/>
                  <a:pt x="1016" y="3248"/>
                  <a:pt x="1272" y="3280"/>
                </a:cubicBezTo>
                <a:cubicBezTo>
                  <a:pt x="1528" y="3312"/>
                  <a:pt x="1840" y="3328"/>
                  <a:pt x="2136" y="3280"/>
                </a:cubicBezTo>
                <a:cubicBezTo>
                  <a:pt x="2432" y="3232"/>
                  <a:pt x="2976" y="3152"/>
                  <a:pt x="3048" y="2992"/>
                </a:cubicBezTo>
                <a:cubicBezTo>
                  <a:pt x="3120" y="2832"/>
                  <a:pt x="2560" y="2424"/>
                  <a:pt x="2568" y="2320"/>
                </a:cubicBezTo>
                <a:cubicBezTo>
                  <a:pt x="2576" y="2216"/>
                  <a:pt x="3096" y="2488"/>
                  <a:pt x="3096" y="2368"/>
                </a:cubicBezTo>
                <a:cubicBezTo>
                  <a:pt x="3096" y="2248"/>
                  <a:pt x="2592" y="1720"/>
                  <a:pt x="2568" y="1600"/>
                </a:cubicBezTo>
                <a:cubicBezTo>
                  <a:pt x="2544" y="1480"/>
                  <a:pt x="2984" y="1768"/>
                  <a:pt x="2952" y="1648"/>
                </a:cubicBezTo>
                <a:cubicBezTo>
                  <a:pt x="2920" y="1528"/>
                  <a:pt x="2440" y="1016"/>
                  <a:pt x="2376" y="880"/>
                </a:cubicBezTo>
                <a:cubicBezTo>
                  <a:pt x="2312" y="744"/>
                  <a:pt x="2648" y="976"/>
                  <a:pt x="2568" y="832"/>
                </a:cubicBezTo>
                <a:cubicBezTo>
                  <a:pt x="2488" y="688"/>
                  <a:pt x="2168" y="32"/>
                  <a:pt x="1896" y="16"/>
                </a:cubicBezTo>
                <a:cubicBezTo>
                  <a:pt x="1624" y="0"/>
                  <a:pt x="1040" y="624"/>
                  <a:pt x="936" y="736"/>
                </a:cubicBezTo>
                <a:cubicBezTo>
                  <a:pt x="832" y="848"/>
                  <a:pt x="1344" y="544"/>
                  <a:pt x="1272" y="688"/>
                </a:cubicBezTo>
                <a:cubicBezTo>
                  <a:pt x="1200" y="832"/>
                  <a:pt x="552" y="1464"/>
                  <a:pt x="504" y="1600"/>
                </a:cubicBezTo>
                <a:cubicBezTo>
                  <a:pt x="456" y="1736"/>
                  <a:pt x="1032" y="1400"/>
                  <a:pt x="984" y="1504"/>
                </a:cubicBezTo>
                <a:cubicBezTo>
                  <a:pt x="936" y="1608"/>
                  <a:pt x="240" y="2096"/>
                  <a:pt x="216" y="2224"/>
                </a:cubicBezTo>
                <a:cubicBezTo>
                  <a:pt x="192" y="2352"/>
                  <a:pt x="856" y="2192"/>
                  <a:pt x="840" y="2272"/>
                </a:cubicBezTo>
                <a:cubicBezTo>
                  <a:pt x="824" y="2352"/>
                  <a:pt x="240" y="2568"/>
                  <a:pt x="120" y="2704"/>
                </a:cubicBezTo>
                <a:cubicBezTo>
                  <a:pt x="0" y="2840"/>
                  <a:pt x="40" y="3024"/>
                  <a:pt x="120" y="308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1600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8862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1828800" y="39625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62440" y="25401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38760" y="261612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152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28600"/>
            <a:ext cx="60984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05240" y="16257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81560" y="170172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28195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3480" y="261612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19440" y="269244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09960" y="375912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86280" y="383544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05440" y="246384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81760" y="254016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33640" y="13971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9960" y="147312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62440" y="383544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38760" y="391176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39625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105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1523880" y="51814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44956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5720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5105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80880"/>
            <a:ext cx="31244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AE09-E22C-4DA9-A919-183E77FD49B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parallelogram">
            <a:avLst>
              <a:gd name="adj" fmla="val -4635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4876920"/>
            <a:ext cx="104760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09680" y="457200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00400" y="449568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048120" y="534024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038480" y="534024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981080" y="534024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1371600" y="4191120"/>
            <a:ext cx="1047600" cy="1517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05520" y="534024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4191120" y="472428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5334120" y="4648320"/>
            <a:ext cx="1047600" cy="1517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609480" y="534024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2"/>
          <a:stretch/>
        </p:blipFill>
        <p:spPr>
          <a:xfrm>
            <a:off x="4114800" y="534024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3"/>
          <a:stretch/>
        </p:blipFill>
        <p:spPr>
          <a:xfrm>
            <a:off x="6095880" y="534024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4"/>
          <a:stretch/>
        </p:blipFill>
        <p:spPr>
          <a:xfrm>
            <a:off x="6705720" y="480060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5"/>
          <a:stretch/>
        </p:blipFill>
        <p:spPr>
          <a:xfrm>
            <a:off x="3524400" y="403848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6"/>
          <a:stretch/>
        </p:blipFill>
        <p:spPr>
          <a:xfrm>
            <a:off x="6172200" y="411480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7"/>
          <a:stretch/>
        </p:blipFill>
        <p:spPr>
          <a:xfrm>
            <a:off x="7162920" y="4191120"/>
            <a:ext cx="1047600" cy="151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8"/>
          <a:stretch/>
        </p:blipFill>
        <p:spPr>
          <a:xfrm>
            <a:off x="2209680" y="411480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9"/>
          <a:stretch/>
        </p:blipFill>
        <p:spPr>
          <a:xfrm>
            <a:off x="4952880" y="388620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666880" y="914400"/>
            <a:ext cx="190512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28800" y="9144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914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752120" y="594360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75248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914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057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3792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5410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5720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666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35053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8640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5049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5238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28954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1066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676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286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819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40384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4572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51814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55627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4114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819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40384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4800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3505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2743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1905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1905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2362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819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3886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410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5486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9144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864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3581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1523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380880"/>
            <a:ext cx="838440" cy="914400"/>
          </a:xfrm>
          <a:custGeom>
            <a:avLst/>
            <a:gdLst>
              <a:gd name="textAreaLeft" fmla="*/ 159120 w 838440"/>
              <a:gd name="textAreaRight" fmla="*/ 679320 w 838440"/>
              <a:gd name="textAreaTop" fmla="*/ 159120 h 914400"/>
              <a:gd name="textAreaBottom" fmla="*/ 75528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17494" y="4106"/>
                </a:lnTo>
                <a:lnTo>
                  <a:pt x="4106" y="4106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17494" y="19450"/>
                </a:lnTo>
                <a:lnTo>
                  <a:pt x="17494" y="4106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4106" y="19450"/>
                </a:lnTo>
                <a:lnTo>
                  <a:pt x="17494" y="19450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4106" y="4106"/>
                </a:lnTo>
                <a:lnTo>
                  <a:pt x="4106" y="19450"/>
                </a:lnTo>
                <a:close/>
              </a:path>
              <a:path fill="darken" w="21600" h="23556">
                <a:moveTo>
                  <a:pt x="10800" y="6820"/>
                </a:moveTo>
                <a:lnTo>
                  <a:pt x="12635" y="8679"/>
                </a:lnTo>
                <a:lnTo>
                  <a:pt x="12635" y="7439"/>
                </a:lnTo>
                <a:lnTo>
                  <a:pt x="13899" y="7439"/>
                </a:lnTo>
                <a:lnTo>
                  <a:pt x="13899" y="9943"/>
                </a:lnTo>
                <a:lnTo>
                  <a:pt x="15759" y="11778"/>
                </a:lnTo>
                <a:lnTo>
                  <a:pt x="14581" y="11778"/>
                </a:lnTo>
                <a:lnTo>
                  <a:pt x="14581" y="16898"/>
                </a:lnTo>
                <a:lnTo>
                  <a:pt x="7019" y="16898"/>
                </a:lnTo>
                <a:lnTo>
                  <a:pt x="7019" y="11778"/>
                </a:lnTo>
                <a:lnTo>
                  <a:pt x="5841" y="11778"/>
                </a:lnTo>
                <a:close/>
              </a:path>
              <a:path fill="darkenLess" w="21600" h="23556">
                <a:moveTo>
                  <a:pt x="12635" y="8679"/>
                </a:moveTo>
                <a:lnTo>
                  <a:pt x="12635" y="7439"/>
                </a:lnTo>
                <a:lnTo>
                  <a:pt x="13899" y="7439"/>
                </a:lnTo>
                <a:lnTo>
                  <a:pt x="13899" y="9943"/>
                </a:lnTo>
                <a:close/>
              </a:path>
              <a:path fill="darkenLess" w="21600" h="23556">
                <a:moveTo>
                  <a:pt x="10143" y="14270"/>
                </a:moveTo>
                <a:lnTo>
                  <a:pt x="11457" y="14270"/>
                </a:lnTo>
                <a:lnTo>
                  <a:pt x="11457" y="16898"/>
                </a:lnTo>
                <a:lnTo>
                  <a:pt x="14581" y="16898"/>
                </a:lnTo>
                <a:lnTo>
                  <a:pt x="14581" y="11778"/>
                </a:lnTo>
                <a:lnTo>
                  <a:pt x="7019" y="11778"/>
                </a:lnTo>
                <a:lnTo>
                  <a:pt x="7019" y="16898"/>
                </a:lnTo>
                <a:lnTo>
                  <a:pt x="10143" y="1689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1:35:52Z</dcterms:created>
  <dc:creator>PIE</dc:creator>
  <dc:description/>
  <dc:language>en-US</dc:language>
  <cp:lastModifiedBy>Sr. Carlos &amp; Famili</cp:lastModifiedBy>
  <dcterms:modified xsi:type="dcterms:W3CDTF">1999-06-29T06:24:12Z</dcterms:modified>
  <cp:revision>29</cp:revision>
  <dc:subject/>
  <dc:title>Sin título de diapositiva</dc:title>
</cp:coreProperties>
</file>