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A2F-8FA3-4F9F-B599-B8DCF168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74F-B526-477D-91C3-4D17CD20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EB6-95B4-45F7-AC0D-A86F613B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48B-9415-48AD-99DE-F42C4E69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938-94C1-434E-B5F7-BB5C987A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229-E0F8-46B8-BD4B-8CADD9F3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F4B-1A05-4662-A289-C96E8DD6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C04-A311-41B7-9EA2-EF364924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DB1-DB59-4F03-9CF7-B66E3FB7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0AA-678F-4426-9BD2-278147B1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169-8D38-46E1-A5AA-9AB75E20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83A-5190-4A15-B2FD-76D70C56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9DA6-D029-4DEC-BBC0-A4EACE197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1087560"/>
          <a:ext cx="6477120" cy="485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87560"/>
                    <a:ext cx="6477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7:46:15Z</dcterms:created>
  <dc:creator>Esteve Campins</dc:creator>
  <dc:description/>
  <dc:language>en-US</dc:language>
  <cp:lastModifiedBy>Esteve Campins</cp:lastModifiedBy>
  <dcterms:modified xsi:type="dcterms:W3CDTF">2004-01-22T17:56:20Z</dcterms:modified>
  <cp:revision>3</cp:revision>
  <dc:subject/>
  <dc:title>Sin título de diapositiva</dc:title>
</cp:coreProperties>
</file>