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IO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113-43CC-4F18-984C-90B03240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D8E-723F-4564-B466-DCBD2FE9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071-5D0A-43DD-8209-91D9CFE1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D4D-BB07-4EAC-A1F3-82211547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402-E303-4861-BE92-C22C84A4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4E9-75D8-475E-AB5B-01164C17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CE4-553E-4E00-975B-9FF877B0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2F0-BF15-496E-B9A3-6BAD2417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28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897-334A-4624-97DE-D689F0D2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2F3-0689-46F3-A6D7-33451189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46C-FE7B-4479-960A-E89A2BF0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4EA-1F7A-4FE8-B5C3-81040BAC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987A-6B04-485F-90BB-4828A318C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O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RIO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audio" Target="../media/RIO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RIO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RIO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RIO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RIO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we-tit" descr=""/>
          <p:cNvPicPr/>
          <p:nvPr/>
        </p:nvPicPr>
        <p:blipFill>
          <a:blip r:embed="rId1"/>
          <a:stretch/>
        </p:blipFill>
        <p:spPr>
          <a:xfrm>
            <a:off x="988920" y="457200"/>
            <a:ext cx="2533680" cy="399960"/>
          </a:xfrm>
          <a:prstGeom prst="rect">
            <a:avLst/>
          </a:prstGeom>
          <a:ln w="0">
            <a:noFill/>
          </a:ln>
        </p:spPr>
      </p:pic>
      <p:pic>
        <p:nvPicPr>
          <p:cNvPr id="42" name="BLocpetit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88920" y="1346040"/>
            <a:ext cx="7313760" cy="4849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43040" y="1346040"/>
            <a:ext cx="609588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ca-ES" sz="4800" spc="-1" strike="noStrike">
                <a:solidFill>
                  <a:srgbClr val="ff3300"/>
                </a:solidFill>
                <a:latin typeface="Comic Sans MS"/>
              </a:rPr>
              <a:t>Presentació de la informació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ca-ES" sz="4800" spc="-1" strike="noStrike">
                <a:solidFill>
                  <a:srgbClr val="ff3300"/>
                </a:solidFill>
                <a:latin typeface="Comic Sans MS"/>
              </a:rPr>
              <a:t>en l'entorn Window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ff3300"/>
                </a:solidFill>
                <a:latin typeface="Comic Sans MS"/>
              </a:rPr>
              <a:t>Microsoft Power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e" descr=""/>
          <p:cNvPicPr/>
          <p:nvPr/>
        </p:nvPicPr>
        <p:blipFill>
          <a:blip r:embed="rId3"/>
          <a:stretch/>
        </p:blipFill>
        <p:spPr>
          <a:xfrm>
            <a:off x="7230960" y="457200"/>
            <a:ext cx="107172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e" descr=""/>
          <p:cNvPicPr/>
          <p:nvPr/>
        </p:nvPicPr>
        <p:blipFill>
          <a:blip r:embed="rId1"/>
          <a:stretch/>
        </p:blipFill>
        <p:spPr>
          <a:xfrm>
            <a:off x="8097840" y="98280"/>
            <a:ext cx="685800" cy="430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9900"/>
                </a:solidFill>
                <a:latin typeface="Comic Sans MS"/>
              </a:rPr>
              <a:t>La tecnologia de la informació: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8568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ot presentar la informació de noves formes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matges fixes o en movimen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33680" y="3990960"/>
            <a:ext cx="1109520" cy="23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715000" y="3990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678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sociar-hi sons i text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55760" y="1854360"/>
            <a:ext cx="3063960" cy="3147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11680" y="3244680"/>
            <a:ext cx="284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9900"/>
                </a:solidFill>
                <a:latin typeface="Comic Sans MS"/>
              </a:rPr>
              <a:t>Un cop introduïda la informació la podrem emprar de diverses mane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Conceptes visuals.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s conceptes visuals són importants.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itjançant la percepció podem captar o interpretar la realitat que ens envolta.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l’hora de crear una diapositiva hem de veure quins poden ser els elements  que ens permetran crear un centre d’interès.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Consideracions prèvies en funció del que volem trametre: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41148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ff"/>
                </a:solidFill>
                <a:latin typeface="Arial"/>
              </a:rPr>
              <a:t>La posició de l’objecte que més destaqueu.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ff"/>
                </a:solidFill>
                <a:latin typeface="Arial"/>
              </a:rPr>
              <a:t>El moviment de l’objecte.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ff"/>
                </a:solidFill>
                <a:latin typeface="Arial"/>
              </a:rPr>
              <a:t>La relació entre els colors.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ff"/>
                </a:solidFill>
                <a:latin typeface="Arial"/>
              </a:rPr>
              <a:t>El contrast sonor.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ff"/>
                </a:solidFill>
                <a:latin typeface="Arial"/>
              </a:rPr>
              <a:t>La relació entre figura i fons.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ff"/>
                </a:solidFill>
                <a:latin typeface="Arial"/>
              </a:rPr>
              <a:t>Les proporcions.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9900"/>
                </a:solidFill>
                <a:latin typeface="Comic Sans MS"/>
              </a:rPr>
              <a:t>La pantalla de Microsoft PowerPoint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9" name="panta2" descr=""/>
          <p:cNvPicPr/>
          <p:nvPr/>
        </p:nvPicPr>
        <p:blipFill>
          <a:blip r:embed="rId1"/>
          <a:stretch/>
        </p:blipFill>
        <p:spPr>
          <a:xfrm>
            <a:off x="685800" y="1671480"/>
            <a:ext cx="7772400" cy="4424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17631000">
            <a:off x="1663560" y="2509920"/>
            <a:ext cx="843120" cy="404640"/>
          </a:xfrm>
          <a:custGeom>
            <a:avLst/>
            <a:gdLst>
              <a:gd name="textAreaLeft" fmla="*/ 131760 w 843120"/>
              <a:gd name="textAreaRight" fmla="*/ 738000 w 843120"/>
              <a:gd name="textAreaTop" fmla="*/ 101160 h 404640"/>
              <a:gd name="textAreaBottom" fmla="*/ 303480 h 404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51000">
            <a:off x="6759360" y="2509560"/>
            <a:ext cx="843120" cy="405000"/>
          </a:xfrm>
          <a:custGeom>
            <a:avLst/>
            <a:gdLst>
              <a:gd name="textAreaLeft" fmla="*/ 131760 w 843120"/>
              <a:gd name="textAreaRight" fmla="*/ 738000 w 843120"/>
              <a:gd name="textAreaTop" fmla="*/ 101160 h 405000"/>
              <a:gd name="textAreaBottom" fmla="*/ 303840 h 405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3064200">
            <a:off x="1663560" y="5127480"/>
            <a:ext cx="842760" cy="404640"/>
          </a:xfrm>
          <a:custGeom>
            <a:avLst/>
            <a:gdLst>
              <a:gd name="textAreaLeft" fmla="*/ 131400 w 842760"/>
              <a:gd name="textAreaRight" fmla="*/ 737640 w 842760"/>
              <a:gd name="textAreaTop" fmla="*/ 101160 h 404640"/>
              <a:gd name="textAreaBottom" fmla="*/ 303480 h 404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3064200">
            <a:off x="61920" y="4816440"/>
            <a:ext cx="842760" cy="404640"/>
          </a:xfrm>
          <a:custGeom>
            <a:avLst/>
            <a:gdLst>
              <a:gd name="textAreaLeft" fmla="*/ 131400 w 842760"/>
              <a:gd name="textAreaRight" fmla="*/ 737640 w 842760"/>
              <a:gd name="textAreaTop" fmla="*/ 101160 h 404640"/>
              <a:gd name="textAreaBottom" fmla="*/ 303480 h 404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8246400">
            <a:off x="6540480" y="5346720"/>
            <a:ext cx="843120" cy="404640"/>
          </a:xfrm>
          <a:custGeom>
            <a:avLst/>
            <a:gdLst>
              <a:gd name="textAreaLeft" fmla="*/ 131760 w 843120"/>
              <a:gd name="textAreaRight" fmla="*/ 738000 w 843120"/>
              <a:gd name="textAreaTop" fmla="*/ 101160 h 404640"/>
              <a:gd name="textAreaBottom" fmla="*/ 303480 h 404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1577200">
            <a:off x="7614720" y="3973680"/>
            <a:ext cx="843120" cy="404640"/>
          </a:xfrm>
          <a:custGeom>
            <a:avLst/>
            <a:gdLst>
              <a:gd name="textAreaLeft" fmla="*/ 131760 w 843120"/>
              <a:gd name="textAreaRight" fmla="*/ 738000 w 843120"/>
              <a:gd name="textAreaTop" fmla="*/ 101160 h 404640"/>
              <a:gd name="textAreaBottom" fmla="*/ 303480 h 404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30T17:08:22Z</dcterms:created>
  <dc:creator>Sr. Carlos &amp; Famili</dc:creator>
  <dc:description/>
  <dc:language>en-US</dc:language>
  <cp:lastModifiedBy>PIE</cp:lastModifiedBy>
  <dcterms:modified xsi:type="dcterms:W3CDTF">1999-06-22T00:41:11Z</dcterms:modified>
  <cp:revision>12</cp:revision>
  <dc:subject/>
  <dc:title>Sin título de diapositiva</dc:title>
</cp:coreProperties>
</file>