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D61D-A90E-4B30-B0C6-EAD6B40CA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281E-E4E2-439A-9170-29B10257E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66D9-CDD8-4A85-BCFA-77F5B6A8B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7CB6-31CA-4C17-ABF5-57FF841A5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37008-CAD9-4272-979A-0A6D1899F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1D683-85DB-4BAB-8043-7A4E3A12E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C5362-0E9F-48F3-837D-5112334F1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B972A-646F-41D5-94C9-6C25D6201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533FD-7E28-4F09-BCF2-26EACD070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AA5D3-219F-406A-A788-257A9B70B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487BB-E490-45A8-A706-B95FBC64C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D409-02AF-4B02-BD37-7713BD6CD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DC051-F36C-406C-8AF4-BEA296F1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930C5-C5E7-49F4-8A8F-861F497F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08672-6E24-4CFA-9AB1-CF4DB7526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9119B-8ADE-4FA7-AE6D-4FEAE70EB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022E7-8C79-47CC-8317-0E5C17AA3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6075-5A71-4F14-B87C-661AAF4DA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0146-4601-46A1-9BFB-59E5007AD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1422-15DD-4883-A382-F0507D8B0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4B8F-BD49-45B9-9208-5994840EF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5EC0-8332-4C00-820D-E5596422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D5B2-9E0A-47F2-BE31-F36FE50A7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8C1C-1A5A-42CC-A127-4341BF29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880" y="304920"/>
            <a:ext cx="8383680" cy="6022800"/>
            <a:chOff x="380880" y="304920"/>
            <a:chExt cx="8383680" cy="6022800"/>
          </a:xfrm>
        </p:grpSpPr>
        <p:grpSp>
          <p:nvGrpSpPr>
            <p:cNvPr id="1" name=""/>
            <p:cNvGrpSpPr/>
            <p:nvPr/>
          </p:nvGrpSpPr>
          <p:grpSpPr>
            <a:xfrm>
              <a:off x="380880" y="1600200"/>
              <a:ext cx="8383680" cy="4727520"/>
              <a:chOff x="380880" y="1600200"/>
              <a:chExt cx="8383680" cy="4727520"/>
            </a:xfrm>
          </p:grpSpPr>
          <p:sp>
            <p:nvSpPr>
              <p:cNvPr id="2" name=""/>
              <p:cNvSpPr/>
              <p:nvPr/>
            </p:nvSpPr>
            <p:spPr>
              <a:xfrm>
                <a:off x="388800" y="1603440"/>
                <a:ext cx="8364600" cy="4724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8088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0" y="0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9996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5268" y="2976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"/>
            <p:cNvGrpSpPr/>
            <p:nvPr/>
          </p:nvGrpSpPr>
          <p:grpSpPr>
            <a:xfrm>
              <a:off x="533520" y="1751040"/>
              <a:ext cx="153720" cy="4421160"/>
              <a:chOff x="533520" y="1751040"/>
              <a:chExt cx="153720" cy="4421160"/>
            </a:xfrm>
          </p:grpSpPr>
          <p:sp>
            <p:nvSpPr>
              <p:cNvPr id="6" name=""/>
              <p:cNvSpPr/>
              <p:nvPr/>
            </p:nvSpPr>
            <p:spPr>
              <a:xfrm>
                <a:off x="533520" y="1752480"/>
                <a:ext cx="152280" cy="441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96" y="2784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380880" y="304920"/>
              <a:ext cx="306360" cy="1144440"/>
              <a:chOff x="380880" y="304920"/>
              <a:chExt cx="306360" cy="1144440"/>
            </a:xfrm>
          </p:grpSpPr>
          <p:sp>
            <p:nvSpPr>
              <p:cNvPr id="10" name=""/>
              <p:cNvSpPr/>
              <p:nvPr/>
            </p:nvSpPr>
            <p:spPr>
              <a:xfrm>
                <a:off x="380880" y="304920"/>
                <a:ext cx="304920" cy="114300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0" y="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192" y="72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267F6-D12B-47FB-8A26-98BA417284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378000" y="1676520"/>
            <a:ext cx="8389800" cy="4421160"/>
            <a:chOff x="378000" y="1676520"/>
            <a:chExt cx="8389800" cy="4421160"/>
          </a:xfrm>
        </p:grpSpPr>
        <p:grpSp>
          <p:nvGrpSpPr>
            <p:cNvPr id="55" name=""/>
            <p:cNvGrpSpPr/>
            <p:nvPr/>
          </p:nvGrpSpPr>
          <p:grpSpPr>
            <a:xfrm>
              <a:off x="378000" y="1676520"/>
              <a:ext cx="8389800" cy="2211120"/>
              <a:chOff x="378000" y="1676520"/>
              <a:chExt cx="8389800" cy="2211120"/>
            </a:xfrm>
          </p:grpSpPr>
          <p:sp>
            <p:nvSpPr>
              <p:cNvPr id="56" name=""/>
              <p:cNvSpPr/>
              <p:nvPr/>
            </p:nvSpPr>
            <p:spPr>
              <a:xfrm>
                <a:off x="385920" y="1677960"/>
                <a:ext cx="8369280" cy="220824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78000" y="1676520"/>
                <a:ext cx="837072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0" y="0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96720" y="1676520"/>
                <a:ext cx="837108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5272" y="1392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380880" y="5943600"/>
              <a:ext cx="8383680" cy="154080"/>
              <a:chOff x="380880" y="5943600"/>
              <a:chExt cx="8383680" cy="154080"/>
            </a:xfrm>
          </p:grpSpPr>
          <p:sp>
            <p:nvSpPr>
              <p:cNvPr id="60" name=""/>
              <p:cNvSpPr/>
              <p:nvPr/>
            </p:nvSpPr>
            <p:spPr>
              <a:xfrm>
                <a:off x="380880" y="5943600"/>
                <a:ext cx="8382240" cy="152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0" y="0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5280" y="96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536400" y="1905120"/>
              <a:ext cx="154080" cy="1752480"/>
              <a:chOff x="536400" y="1905120"/>
              <a:chExt cx="154080" cy="1752480"/>
            </a:xfrm>
          </p:grpSpPr>
          <p:sp>
            <p:nvSpPr>
              <p:cNvPr id="64" name=""/>
              <p:cNvSpPr/>
              <p:nvPr/>
            </p:nvSpPr>
            <p:spPr>
              <a:xfrm>
                <a:off x="536400" y="1906560"/>
                <a:ext cx="152640" cy="175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96" y="1103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36C9D-61B2-4EB1-9A61-C9BCAE60A3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514600" y="533520"/>
            <a:ext cx="4343400" cy="3657600"/>
          </a:xfrm>
          <a:prstGeom prst="star5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ff9999"/>
                </a:solidFill>
                <a:latin typeface="Verdana"/>
              </a:rPr>
              <a:t>LA C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9072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Tratado constitutivo de la Comunidad Económica Europea.</a:t>
            </a:r>
            <a:r>
              <a:rPr b="0" lang="ca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457200" y="447840"/>
            <a:ext cx="8229600" cy="59623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ff9999"/>
                </a:solidFill>
                <a:latin typeface="Verdana"/>
              </a:rPr>
              <a:t>LA C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33520" y="4038480"/>
          <a:ext cx="8074080" cy="1793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4038480"/>
                    <a:ext cx="8074080" cy="17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8T07:45:45Z</dcterms:created>
  <dc:creator>Esteve Campins</dc:creator>
  <dc:description/>
  <dc:language>en-US</dc:language>
  <cp:lastModifiedBy>Esteve Campins</cp:lastModifiedBy>
  <dcterms:modified xsi:type="dcterms:W3CDTF">2006-07-14T19:09:45Z</dcterms:modified>
  <cp:revision>11</cp:revision>
  <dc:subject/>
  <dc:title>LA CEE</dc:title>
</cp:coreProperties>
</file>