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37B-4804-44B5-9E3C-1A93469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8D4-DBF5-4C63-AA7C-44B2B6E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3AE-EEAF-4FA9-B212-C56F56B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D1A-890D-4BCC-A404-55506DB0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BC4-F7E9-4D55-9173-185008C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6E1-6543-4BBC-A90D-9BE1A29F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545-B0C0-48CA-A72D-99304388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E5A-259D-48CA-A992-2A798747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464-1C1C-4940-97CE-8AF8107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C80-05CE-481F-996A-08F591F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30E-1BC8-427C-8984-8250E64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940-A3E7-4747-BE15-C1D5C7B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3AE-3DAF-4F37-9642-D02399C2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udwing van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3124080"/>
          <a:ext cx="214488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24080"/>
                    <a:ext cx="2144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loss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87631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Minuet 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ansa francesa, de tres temps, que apareix al s XVII que acaba adaptantse a la sonata clàs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pus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terme emprat per molts compositirs per indicar la posició cronlògica de cada obra dins llur producció mus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Quartet :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composuició musical per a quatre instruments o v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imfoni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per a orqu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onat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instrumental per a solista o per a petit conjunt de cam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5943600" y="380880"/>
            <a:ext cx="2590920" cy="609840"/>
          </a:xfrm>
          <a:custGeom>
            <a:avLst/>
            <a:gdLst>
              <a:gd name="textAreaLeft" fmla="*/ 66600 w 2590920"/>
              <a:gd name="textAreaRight" fmla="*/ 2524320 w 2590920"/>
              <a:gd name="textAreaTop" fmla="*/ 66600 h 609840"/>
              <a:gd name="textAreaBottom" fmla="*/ 543240 h 609840"/>
            </a:gdLst>
            <a:ahLst/>
            <a:rect l="textAreaLeft" t="textAreaTop" r="textAreaRight" b="textAreaBottom"/>
            <a:pathLst>
              <a:path w="91727" h="21600">
                <a:moveTo>
                  <a:pt x="0" y="0"/>
                </a:moveTo>
                <a:lnTo>
                  <a:pt x="91727" y="0"/>
                </a:lnTo>
                <a:lnTo>
                  <a:pt x="91727" y="21600"/>
                </a:lnTo>
                <a:lnTo>
                  <a:pt x="0" y="21600"/>
                </a:lnTo>
                <a:close/>
              </a:path>
              <a:path fill="lightenLess" w="91727" h="21600">
                <a:moveTo>
                  <a:pt x="0" y="0"/>
                </a:moveTo>
                <a:lnTo>
                  <a:pt x="91727" y="0"/>
                </a:lnTo>
                <a:lnTo>
                  <a:pt x="89364" y="2363"/>
                </a:lnTo>
                <a:lnTo>
                  <a:pt x="2363" y="2363"/>
                </a:lnTo>
                <a:close/>
              </a:path>
              <a:path fill="darken" w="91727" h="21600">
                <a:moveTo>
                  <a:pt x="91727" y="0"/>
                </a:moveTo>
                <a:lnTo>
                  <a:pt x="91727" y="21600"/>
                </a:lnTo>
                <a:lnTo>
                  <a:pt x="89364" y="19237"/>
                </a:lnTo>
                <a:lnTo>
                  <a:pt x="89364" y="2363"/>
                </a:lnTo>
                <a:close/>
              </a:path>
              <a:path fill="darkenLess" w="91727" h="21600">
                <a:moveTo>
                  <a:pt x="91727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89364" y="19237"/>
                </a:lnTo>
                <a:close/>
              </a:path>
              <a:path fill="lighten" w="91727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ullir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scull un 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200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295280" y="236232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295280" y="4038480"/>
            <a:ext cx="2971800" cy="106704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0145" h="21600">
                <a:moveTo>
                  <a:pt x="0" y="0"/>
                </a:moveTo>
                <a:lnTo>
                  <a:pt x="60145" y="0"/>
                </a:lnTo>
                <a:lnTo>
                  <a:pt x="60145" y="21600"/>
                </a:lnTo>
                <a:lnTo>
                  <a:pt x="0" y="21600"/>
                </a:lnTo>
                <a:close/>
              </a:path>
              <a:path fill="lightenLess" w="60145" h="21600">
                <a:moveTo>
                  <a:pt x="0" y="0"/>
                </a:moveTo>
                <a:lnTo>
                  <a:pt x="60145" y="0"/>
                </a:lnTo>
                <a:lnTo>
                  <a:pt x="58745" y="1400"/>
                </a:lnTo>
                <a:lnTo>
                  <a:pt x="1400" y="1400"/>
                </a:lnTo>
                <a:close/>
              </a:path>
              <a:path fill="darken" w="60145" h="21600">
                <a:moveTo>
                  <a:pt x="60145" y="0"/>
                </a:moveTo>
                <a:lnTo>
                  <a:pt x="60145" y="21600"/>
                </a:lnTo>
                <a:lnTo>
                  <a:pt x="58745" y="20200"/>
                </a:lnTo>
                <a:lnTo>
                  <a:pt x="58745" y="1400"/>
                </a:lnTo>
                <a:close/>
              </a:path>
              <a:path fill="darkenLess" w="60145" h="21600">
                <a:moveTo>
                  <a:pt x="60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45" y="20200"/>
                </a:lnTo>
                <a:close/>
              </a:path>
              <a:path fill="lighten" w="60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781680" y="5791320"/>
            <a:ext cx="1371600" cy="685800"/>
          </a:xfrm>
          <a:custGeom>
            <a:avLst/>
            <a:gdLst>
              <a:gd name="textAreaLeft" fmla="*/ 108360 w 1371600"/>
              <a:gd name="textAreaRight" fmla="*/ 1263240 w 1371600"/>
              <a:gd name="textAreaTop" fmla="*/ 108360 h 685800"/>
              <a:gd name="textAreaBottom" fmla="*/ 57744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39776" y="3413"/>
                </a:lnTo>
                <a:lnTo>
                  <a:pt x="3413" y="3413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39776" y="18187"/>
                </a:lnTo>
                <a:lnTo>
                  <a:pt x="39776" y="3413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3413" y="18187"/>
                </a:lnTo>
                <a:lnTo>
                  <a:pt x="39776" y="18187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3413" y="3413"/>
                </a:lnTo>
                <a:lnTo>
                  <a:pt x="3413" y="1818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 vida de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457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Beethoven va néixer el 16 de Desembre del 1770 a Bonn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lemany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 Anà a Viena a rebre lliçons de Mozart i posteriorment de Haydn. Ben aviat sobresortí pels seus dots de compositor i de pianist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influència sobre generacions venidores fou inesborrable, car promogué la transformació de la música occidental, de la qual és, potser, el compositor més representatiu. Va morir el 1827 a Viena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Àustr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281916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cc33"/>
                </a:solidFill>
                <a:latin typeface="Times New Roman"/>
              </a:rPr>
              <a:t>ALEM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76262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362320"/>
            <a:ext cx="381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’hi poden distingir tres f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143000" y="281952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770-1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143000" y="411480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01-18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1143000" y="541008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15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3276720"/>
          <a:ext cx="3809880" cy="254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4343400" y="3276720"/>
                    <a:ext cx="3809880" cy="254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Primera fase del 1770 al 1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9907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seves obres no es distingeixen, formalment, de les de Haydn i de Mozart; les obres més destacables són les prim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els dos primers concerts per a piano i orquestra, la primera simfonia, el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8, i el cèlebre Septet opus 20. Cap a la fi d’aquesta època se li manifestà la sordesa, que acabà esdevenint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15000"/>
            <a:ext cx="2895840" cy="762120"/>
          </a:xfrm>
          <a:custGeom>
            <a:avLst/>
            <a:gdLst>
              <a:gd name="textAreaLeft" fmla="*/ 104760 w 2895840"/>
              <a:gd name="textAreaRight" fmla="*/ 2791080 w 289584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82045" h="21600">
                <a:moveTo>
                  <a:pt x="0" y="0"/>
                </a:moveTo>
                <a:lnTo>
                  <a:pt x="82045" y="0"/>
                </a:lnTo>
                <a:lnTo>
                  <a:pt x="82045" y="21600"/>
                </a:lnTo>
                <a:lnTo>
                  <a:pt x="0" y="21600"/>
                </a:lnTo>
                <a:close/>
              </a:path>
              <a:path fill="lightenLess" w="82045" h="21600">
                <a:moveTo>
                  <a:pt x="0" y="0"/>
                </a:moveTo>
                <a:lnTo>
                  <a:pt x="82045" y="0"/>
                </a:lnTo>
                <a:lnTo>
                  <a:pt x="79075" y="2970"/>
                </a:lnTo>
                <a:lnTo>
                  <a:pt x="2970" y="2970"/>
                </a:lnTo>
                <a:close/>
              </a:path>
              <a:path fill="darken" w="82045" h="21600">
                <a:moveTo>
                  <a:pt x="82045" y="0"/>
                </a:moveTo>
                <a:lnTo>
                  <a:pt x="82045" y="21600"/>
                </a:lnTo>
                <a:lnTo>
                  <a:pt x="79075" y="18630"/>
                </a:lnTo>
                <a:lnTo>
                  <a:pt x="79075" y="2970"/>
                </a:lnTo>
                <a:close/>
              </a:path>
              <a:path fill="darkenLess" w="82045" h="21600">
                <a:moveTo>
                  <a:pt x="8204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79075" y="18630"/>
                </a:lnTo>
                <a:close/>
              </a:path>
              <a:path fill="lighten" w="8204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p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Segona fase del 1801 al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a segona etapa reformà l’estructura clàssica de la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imfon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substituint el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inue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un scherzo que permetia una major llibertat en la composició. Entre el 1804 i el 1808 compongué quatre simfonies, de la Tercera a la Sisena. La Setena i la Vuitena aparegueren simultàniament l’any 1812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715000"/>
            <a:ext cx="3733560" cy="763560"/>
          </a:xfrm>
          <a:custGeom>
            <a:avLst/>
            <a:gdLst>
              <a:gd name="textAreaLeft" fmla="*/ 104760 w 3733560"/>
              <a:gd name="textAreaRight" fmla="*/ 3628800 w 3733560"/>
              <a:gd name="textAreaTop" fmla="*/ 104760 h 763560"/>
              <a:gd name="textAreaBottom" fmla="*/ 658800 h 763560"/>
            </a:gdLst>
            <a:ahLst/>
            <a:rect l="textAreaLeft" t="textAreaTop" r="textAreaRight" b="textAreaBottom"/>
            <a:pathLst>
              <a:path w="105577" h="21600">
                <a:moveTo>
                  <a:pt x="0" y="0"/>
                </a:moveTo>
                <a:lnTo>
                  <a:pt x="105577" y="0"/>
                </a:lnTo>
                <a:lnTo>
                  <a:pt x="105577" y="21600"/>
                </a:lnTo>
                <a:lnTo>
                  <a:pt x="0" y="21600"/>
                </a:lnTo>
                <a:close/>
              </a:path>
              <a:path fill="lightenLess" w="105577" h="21600">
                <a:moveTo>
                  <a:pt x="0" y="0"/>
                </a:moveTo>
                <a:lnTo>
                  <a:pt x="105577" y="0"/>
                </a:lnTo>
                <a:lnTo>
                  <a:pt x="102608" y="2970"/>
                </a:lnTo>
                <a:lnTo>
                  <a:pt x="2970" y="2970"/>
                </a:lnTo>
                <a:close/>
              </a:path>
              <a:path fill="darken" w="105577" h="21600">
                <a:moveTo>
                  <a:pt x="105577" y="0"/>
                </a:moveTo>
                <a:lnTo>
                  <a:pt x="105577" y="21600"/>
                </a:lnTo>
                <a:lnTo>
                  <a:pt x="102608" y="18630"/>
                </a:lnTo>
                <a:lnTo>
                  <a:pt x="102608" y="2970"/>
                </a:lnTo>
                <a:close/>
              </a:path>
              <a:path fill="darkenLess" w="105577" h="21600">
                <a:moveTo>
                  <a:pt x="105577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02608" y="18630"/>
                </a:lnTo>
                <a:close/>
              </a:path>
              <a:path fill="lighten" w="105577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tena simf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Tercera fase del 1815 al 1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715000"/>
            <a:ext cx="4038480" cy="762120"/>
          </a:xfrm>
          <a:custGeom>
            <a:avLst/>
            <a:gdLst>
              <a:gd name="textAreaLeft" fmla="*/ 104760 w 4038480"/>
              <a:gd name="textAreaRight" fmla="*/ 3933720 w 403848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1445" y="2970"/>
                </a:lnTo>
                <a:lnTo>
                  <a:pt x="2970" y="297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1445" y="18630"/>
                </a:lnTo>
                <a:lnTo>
                  <a:pt x="111445" y="297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11445" y="1863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Novena Simfo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29528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’última fase de la seva vida, creà les darr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com la Hammerklavier,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06, els últims i aleshores incompreso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a Gran Fuga per a corda, opus 133, la Missa Solemnis en re major i la Novena Simfo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09:41:30Z</dcterms:created>
  <dc:creator>Sr. Carlos &amp; Famili</dc:creator>
  <dc:description/>
  <dc:language>en-US</dc:language>
  <cp:lastModifiedBy>Sr. Carlos &amp; Famili</cp:lastModifiedBy>
  <dcterms:modified xsi:type="dcterms:W3CDTF">1999-06-29T06:39:50Z</dcterms:modified>
  <cp:revision>23</cp:revision>
  <dc:subject/>
  <dc:title>Ludwing van Beetho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ls meus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