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wmf" ContentType="image/x-wmf"/>
  <Override PartName="/ppt/media/image4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Comic Sans MS"/>
              </a:rPr>
              <a:t>Click to move the slide</a:t>
            </a:r>
            <a:endParaRPr b="1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0A44-7665-4868-A993-D97164D360EA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Objecti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quest tutorial pretén ser un suport per al formador/a a l’hora de construir la primera presentació sense tenir en compte els continguts en si, sinó els elements bàsics per donar forma a una projecci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eu referència a com podem desplaçar-nos entre diapositives i com esbrinar a quin número de diapositiva ens trob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 desar una nova presentació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briu el menú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hiv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i seleccioneu l’opció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Guardar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oseu el nom estiu98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grama PowerPoint la desa per defecte com a presentació amb l’extensió 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orneu al menú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hiv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i dieu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alir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briu l’opció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brir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del menú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hiv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i escolliu la presentació estiu98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Observeu la diverses modalitats per veure una diaposi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Cliqueu els diversos botons de la barra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Ver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Diapos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Esqu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Classific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Pàgina de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Projecci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fegiu un nou text fent servir el botó de nou text de la barra d’eines de dibuix i escriviu: </a:t>
            </a:r>
            <a:r>
              <a:rPr b="0" i="1" lang="ca-ES" sz="1200" spc="-1" strike="noStrike">
                <a:solidFill>
                  <a:srgbClr val="000000"/>
                </a:solidFill>
                <a:latin typeface="Times New Roman"/>
              </a:rPr>
              <a:t>Això és un text n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Pràctica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Obriu l’opció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Nuev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del menú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Archiv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Seleccioneu l’opció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Una presentación en blanc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Escolliu l’opció de disseny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Diapositiva de títul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fegiu un nova diapositiva de disseny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Sólo títul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i escriviu: </a:t>
            </a:r>
            <a:r>
              <a:rPr b="0" i="1" lang="ca-ES" sz="1200" spc="-1" strike="noStrike">
                <a:solidFill>
                  <a:srgbClr val="000000"/>
                </a:solidFill>
                <a:latin typeface="Times New Roman"/>
              </a:rPr>
              <a:t>Diapositiva amb dibuixos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Feu un dibuix d’una casa amb les autoformes de la barra de dibu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Inseriu un dibuix predissenyat: Aneu al menú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Insertar/Imagen/Imágenes prediseñadas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i inseriu el cotxe de bloc de transports. Adeqüeu-lo a la diapositiva amb els botons de control del dibu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Inseriu una nova diapositiva de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Diseño en blanc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Inseriu una capsa de text:  </a:t>
            </a:r>
            <a:r>
              <a:rPr b="0" i="1" lang="ca-ES" sz="1200" spc="-1" strike="noStrike">
                <a:solidFill>
                  <a:srgbClr val="000000"/>
                </a:solidFill>
                <a:latin typeface="Times New Roman"/>
              </a:rPr>
              <a:t>Sóc rodona com un plat i molt alta m’han posat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Des del menú de format modifiqueu la font, la mida, el color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fegiu un dibuix de les autoformes: cintes i estr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neu al menú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i inseriu un fons de tex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Us  mostrarà una pantalla semblant a aquesta i heu d’escollir la pestanya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, on trobareu la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entación en blanc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ctiveu l’opció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Transición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i veureu els efectes de les transic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ssajar amb els intervals des del menú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Presentación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magueu un diapositiv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Proveu de desar la presentació en format HTM i visualitzeu l’efecte amb un navega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928-63F8-4B82-B172-91313F43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BB0-7B9A-46DF-BD42-98886324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9F2-13BE-49C7-BD32-1484E4A4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1FD-D616-4590-9F89-13F291D9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13A1-FE9B-42A2-B0C3-93F2C697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7CA2-15A4-476F-970D-9C33E3DD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C3AA-D53A-4702-9BDE-B757EAF0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6440-F01B-49F3-82D6-9C34CFB2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B9E0-8999-4693-A707-7DA2BB62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C4D7-0B69-4EE0-BA43-A3C14A7C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6A0F-8EAA-49B7-8542-4A74E21F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4B2F-E9EF-4D9D-9981-FB0F8561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A44A-51D2-498D-84AA-C5A7F195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C89D-F212-4377-AFD2-FD758F14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ACD9-CE13-459B-8AD3-58AC5EE6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3BA5-7F65-4A44-80C9-3C167CFA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1A54-71F6-4247-8703-7918AA0A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B63-3177-4EBD-8305-CE7B4438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8AD-3589-4225-9DF8-7B26407E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4812-4C87-4040-9D5D-4A11470C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DE6-B61A-40CB-9E68-B5AA852B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C6E-F311-48C9-B605-AEC5EAC5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F2C0-3265-41F7-AFFF-4EF6010C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C65-EEE6-4775-B31B-DE8E648B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600200"/>
            <a:ext cx="7467480" cy="27612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9900"/>
                </a:solidFill>
                <a:latin typeface="Comic Sans MS"/>
              </a:rPr>
              <a:t>Click to edit the title text format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7AD5-F608-43FF-A32D-7CE98464E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3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Comic Sans MS"/>
              </a:rPr>
              <a:t>Click to edit the title text format</a:t>
            </a:r>
            <a:endParaRPr b="1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45DB-1358-4306-8FF4-2FFDD7B1F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3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hyperlink" Target="file:///tmp/home/.config/libreoffice/4/user/gallery/ARPEGIO.WAV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" Target="slide36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1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wmf"/><Relationship Id="rId3" Type="http://schemas.openxmlformats.org/officeDocument/2006/relationships/slide" Target="slide18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7.wmf"/><Relationship Id="rId4" Type="http://schemas.openxmlformats.org/officeDocument/2006/relationships/hyperlink" Target="file:///tmp/home/.config/libreoffice/4/user/gallery/ARPEGIO.WAV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8.wmf"/><Relationship Id="rId4" Type="http://schemas.openxmlformats.org/officeDocument/2006/relationships/hyperlink" Target="file:///tmp/home/.config/libreoffice/4/user/gallery/ARPEGIO.WAV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hyperlink" Target="file:///tmp/home/.config/libreoffice/4/user/gallery/ARPEGIO.WAV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3880" y="471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Comic Sans MS"/>
              </a:rPr>
              <a:t>Presentació de la informació en l’entorn Windows Microsoft PowerPoint</a:t>
            </a:r>
            <a:endParaRPr b="1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  <p:transition advTm="8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Una nova diapositiva. (I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A partir d’ara ja sabeu com podeu anar afegint noves diapositives a la vostra presentaci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ANTA56" descr=""/>
          <p:cNvPicPr/>
          <p:nvPr/>
        </p:nvPicPr>
        <p:blipFill>
          <a:blip r:embed="rId2"/>
          <a:stretch/>
        </p:blipFill>
        <p:spPr>
          <a:xfrm>
            <a:off x="1752480" y="4648320"/>
            <a:ext cx="1040040" cy="8665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24" name=""/>
          <p:cNvSpPr/>
          <p:nvPr/>
        </p:nvSpPr>
        <p:spPr>
          <a:xfrm>
            <a:off x="3276720" y="4129200"/>
            <a:ext cx="2971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0560" y="3732840"/>
            <a:ext cx="1646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Control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ANTA58" descr=""/>
          <p:cNvPicPr/>
          <p:nvPr/>
        </p:nvPicPr>
        <p:blipFill>
          <a:blip r:embed="rId3"/>
          <a:stretch/>
        </p:blipFill>
        <p:spPr>
          <a:xfrm>
            <a:off x="4952880" y="4876920"/>
            <a:ext cx="3476880" cy="1114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60840" y="2035080"/>
            <a:ext cx="6018120" cy="4513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53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esplaçament entre diapositive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2840" y="2341440"/>
            <a:ext cx="5094360" cy="33688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odeu fer servir la barra de desplaçament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A la barra d’estat podreu observar el núm. de la diapositiva en la qual us trob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058400" y="495288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88160" y="304956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5400" y="603576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Guardar un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odeu fer-ho des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l menú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rchivo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i seleccionant l’opció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Guar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rement el botó         de la barra d’e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410080"/>
            <a:ext cx="91440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333ff"/>
                </a:solidFill>
                <a:latin typeface="Arial"/>
              </a:rPr>
              <a:t>Recordeu que heu de posar nom a la presenta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ANTA5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495680" y="3962520"/>
            <a:ext cx="446040" cy="463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ANTA60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6507000" cy="4386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66800" y="428760"/>
            <a:ext cx="42739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9900"/>
                </a:solidFill>
                <a:latin typeface="Comic Sans MS"/>
              </a:rPr>
              <a:t>Desar una presenta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Obrir un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er obrir una presentació podeu f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Anar al menú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rchivo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i seleccionar l’opció </a:t>
            </a:r>
            <a:r>
              <a:rPr b="0" lang="ca-ES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Ab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Clicar el botó  de la barra d’e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olliu el nom de la presentació que voleu obrir i premeu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Retorn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ANTA6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8880" y="3886200"/>
            <a:ext cx="684360" cy="6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Obrir un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er a obrir una presentació podeu f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Anar al menú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rchivo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i seleccionar l’opció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b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Clicar el botó  de la barra d’e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olliu el nom de la presentació que voleu obrir i premeu Retor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ANTA61" descr=""/>
          <p:cNvPicPr/>
          <p:nvPr/>
        </p:nvPicPr>
        <p:blipFill>
          <a:blip r:embed="rId2"/>
          <a:stretch/>
        </p:blipFill>
        <p:spPr>
          <a:xfrm>
            <a:off x="7238880" y="3886200"/>
            <a:ext cx="684360" cy="6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848720" y="5562720"/>
            <a:ext cx="600120" cy="6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05240" y="657360"/>
            <a:ext cx="41857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9933"/>
                </a:solidFill>
                <a:latin typeface="Comic Sans MS"/>
              </a:rPr>
              <a:t>Obrir una presenta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420920" y="2081160"/>
            <a:ext cx="6095880" cy="44420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</p:pic>
      <p:pic>
        <p:nvPicPr>
          <p:cNvPr id="148" name="left" descr=""/>
          <p:cNvPicPr/>
          <p:nvPr/>
        </p:nvPicPr>
        <p:blipFill>
          <a:blip r:embed="rId3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05240" y="657360"/>
            <a:ext cx="41857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9933"/>
                </a:solidFill>
                <a:latin typeface="Comic Sans MS"/>
              </a:rPr>
              <a:t>Obrir una presenta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ANTA62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6711840" cy="2284560"/>
          </a:xfrm>
          <a:prstGeom prst="rect">
            <a:avLst/>
          </a:prstGeom>
          <a:ln w="0">
            <a:noFill/>
          </a:ln>
        </p:spPr>
      </p:pic>
      <p:pic>
        <p:nvPicPr>
          <p:cNvPr id="151" name="left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Veure els botons de viste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Aquests botons us permetran accedir a les diverses modalitats per veure les diaposi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ANTA66" descr=""/>
          <p:cNvPicPr/>
          <p:nvPr/>
        </p:nvPicPr>
        <p:blipFill>
          <a:blip r:embed="rId2"/>
          <a:stretch/>
        </p:blipFill>
        <p:spPr>
          <a:xfrm>
            <a:off x="3581280" y="3733920"/>
            <a:ext cx="4132440" cy="8557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55" name=""/>
          <p:cNvSpPr/>
          <p:nvPr/>
        </p:nvSpPr>
        <p:spPr>
          <a:xfrm>
            <a:off x="612000" y="3733920"/>
            <a:ext cx="19270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Diaposi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3560" y="4800600"/>
            <a:ext cx="17640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Esqu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800" y="5791320"/>
            <a:ext cx="24192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Classific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21880" y="5105520"/>
            <a:ext cx="29098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Pàgina de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4680" y="5715000"/>
            <a:ext cx="1785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Projec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4419720"/>
            <a:ext cx="198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514600" y="4419720"/>
            <a:ext cx="205740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581280" y="4495680"/>
            <a:ext cx="175284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715000" y="4419720"/>
            <a:ext cx="53352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7391160" y="4419720"/>
            <a:ext cx="6858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Afegir un nou text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es diapositives ja tenen un lloc determinat pel títol i per un text determin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voleu afegir un nou text podeu fer servir el botó          de la barra d’eines de dibu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657600" y="4191120"/>
            <a:ext cx="604800" cy="5760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505320" y="4876920"/>
            <a:ext cx="4419360" cy="1371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495680" y="5181480"/>
            <a:ext cx="16099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3300"/>
                </a:solidFill>
                <a:latin typeface="Arial"/>
              </a:rPr>
              <a:t>Nou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Feu clic sobre el botó            i veureu aparèixer la finestra: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Nueva presentación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eleccioneu el botó d’opció: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Una presentación en blan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olliu el format de diapositiva que voleu utilitz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Creació d’un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98" name="PANTA2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334120" y="2057400"/>
            <a:ext cx="718920" cy="7192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Afegir text  dins d’un dibuix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ibuixeu una forma qualse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Una vegada dibuixada la forma, seleccioneu-la i cliqueu a so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riviu un text i apareixerà a d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600200" y="4737240"/>
            <a:ext cx="4952880" cy="1663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133720" y="5105520"/>
            <a:ext cx="3886200" cy="930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01480" y="5257800"/>
            <a:ext cx="16070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333ff"/>
                </a:solidFill>
                <a:latin typeface="Arial"/>
              </a:rPr>
              <a:t>Nou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onar format al text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 la barra d’eines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 Format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tenim la major part de les opc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3749400" cy="2303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5800" y="3429000"/>
            <a:ext cx="16002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360" y="3352680"/>
            <a:ext cx="18248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Neg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Curs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Subratl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Om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267080"/>
            <a:ext cx="21337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linea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9360" y="5791320"/>
            <a:ext cx="205956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ugme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7240" y="6210360"/>
            <a:ext cx="14500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Viny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5181480"/>
            <a:ext cx="17528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Esp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6210360"/>
            <a:ext cx="14479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Niv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4680" y="5867280"/>
            <a:ext cx="17838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nima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4114800"/>
            <a:ext cx="198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5029200"/>
            <a:ext cx="198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5562720"/>
            <a:ext cx="1143000" cy="304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24080" y="5028840"/>
            <a:ext cx="68580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638680" y="434340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5409720" y="4952880"/>
            <a:ext cx="12956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105160" y="5486400"/>
            <a:ext cx="11430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343040" y="5638680"/>
            <a:ext cx="15228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Copiar format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 algn="just">
              <a:lnSpc>
                <a:spcPct val="16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Aquest botó        us permet copiar un conjunt d’estils a partir del text o de l’objecte seleccionat, i aplicar-lo a un altre text o objec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876840" y="2432160"/>
            <a:ext cx="417240" cy="3985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Canviar  l’aline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Format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Alineación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permet canviar l’alineació del t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8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C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Justif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594000" cy="5698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343400" y="4800600"/>
            <a:ext cx="449280" cy="496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267080" y="4114800"/>
            <a:ext cx="551160" cy="4795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343400" y="5486400"/>
            <a:ext cx="453960" cy="4064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03" name=""/>
          <p:cNvSpPr/>
          <p:nvPr/>
        </p:nvSpPr>
        <p:spPr>
          <a:xfrm>
            <a:off x="3124080" y="36576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44197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50292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57913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638680" y="3809880"/>
            <a:ext cx="2684520" cy="1543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Canviar l’interlineat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voleu canviar l’interlineat d’un objecte de text podeu anar a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Format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i seleccionar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Interlinead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809880" y="3733920"/>
            <a:ext cx="3138480" cy="27874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buixar i modificar.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barra d’eines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Dibuj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us permet afegir un gràfic senz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43000" y="3124080"/>
            <a:ext cx="2440080" cy="2764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715000" y="3352680"/>
            <a:ext cx="1843200" cy="2313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15" name=""/>
          <p:cNvSpPr/>
          <p:nvPr/>
        </p:nvSpPr>
        <p:spPr>
          <a:xfrm>
            <a:off x="2133720" y="4419720"/>
            <a:ext cx="35049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buixar i modificar. (I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bot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Dibuj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de la barra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Dibuj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us mostrarà un menú d’ordres  que us permetrà modificar els dibuixos  realitz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070600" y="3552840"/>
            <a:ext cx="2698560" cy="2968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714680" y="4476600"/>
            <a:ext cx="1338120" cy="5968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20" name=""/>
          <p:cNvSpPr/>
          <p:nvPr/>
        </p:nvSpPr>
        <p:spPr>
          <a:xfrm>
            <a:off x="3143160" y="4782960"/>
            <a:ext cx="1878120" cy="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La funció dels patron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747720" y="2100240"/>
            <a:ext cx="786456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patró d’una diapositiva emmagatzema tota la informació de disseny sobre l’aspecte de la diaposi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3840" y="4224240"/>
            <a:ext cx="8003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624640" y="4646520"/>
            <a:ext cx="2627280" cy="1408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322280" y="4660920"/>
            <a:ext cx="3468960" cy="34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26" name=""/>
          <p:cNvSpPr/>
          <p:nvPr/>
        </p:nvSpPr>
        <p:spPr>
          <a:xfrm>
            <a:off x="4721400" y="48625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El format del patró. 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14240" y="1973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atrón de diaposi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rmat de text de les diaposi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atrón de tít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rmat de la pàgina de tít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atrón de nota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rmat de les notes de l’or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atrón de doc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rmat de les pàgines de document d’una presentaci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El format del patró. (I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5307120" cy="27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s elements de fons que poseu en el patró apareixeran a totes les diaposi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Fond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Format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podeu modificar el fons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37200" y="3635280"/>
            <a:ext cx="2733840" cy="2524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Una nov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76520" y="2819520"/>
            <a:ext cx="5715000" cy="344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101" name=""/>
          <p:cNvSpPr/>
          <p:nvPr/>
        </p:nvSpPr>
        <p:spPr>
          <a:xfrm rot="10804200">
            <a:off x="3048120" y="358056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23760" y="2054160"/>
            <a:ext cx="4102200" cy="3786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33" name=""/>
          <p:cNvSpPr/>
          <p:nvPr/>
        </p:nvSpPr>
        <p:spPr>
          <a:xfrm>
            <a:off x="5932440" y="2503440"/>
            <a:ext cx="32115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plica a totes les diapos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10240" y="3956040"/>
            <a:ext cx="30844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 la diapositiva selecc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1040" y="5889600"/>
            <a:ext cx="75628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Per escollir color, textura, trama o imat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Fons d’una diapositiva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4976640" y="2901960"/>
            <a:ext cx="93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87800" y="3279600"/>
            <a:ext cx="655920" cy="868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914560" y="5099040"/>
            <a:ext cx="11160" cy="868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60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La transició entre diapositive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resentación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Transición de diapositiv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us permetrà controlar l’efecte de la transició de les diaposi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873600" y="4430880"/>
            <a:ext cx="4186080" cy="45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60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La transició entre diapositive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31280" y="2116080"/>
            <a:ext cx="7912440" cy="131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 la visualitza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Clasificador de diapositiva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podreu especificar la transició per a una o diverses diaposi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363920" y="3705120"/>
            <a:ext cx="416412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46" name=""/>
          <p:cNvSpPr/>
          <p:nvPr/>
        </p:nvSpPr>
        <p:spPr>
          <a:xfrm>
            <a:off x="363600" y="4081320"/>
            <a:ext cx="3690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Interval de temps a la diaposi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68560" y="6210360"/>
            <a:ext cx="51562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Relació d’efec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74960" y="5086440"/>
            <a:ext cx="1243080" cy="334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307200" y="5097600"/>
            <a:ext cx="7920" cy="137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Amagar diapositives en l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23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voleu amagar una o diverses diapositives d’una presentació cal que les seleccioneu i cliqueu sobre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Ocultar diapositiv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resen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311560" y="5073480"/>
            <a:ext cx="6002280" cy="714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Presentacions portàtil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7360" y="2057040"/>
            <a:ext cx="7772400" cy="232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resentaciones portátile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Archiv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podeu desar la presentació per poder ser utilitzada des de l’altre ordin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1240" y="4273560"/>
            <a:ext cx="3218040" cy="3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151160" y="4213080"/>
            <a:ext cx="4629240" cy="22798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5400" spc="-1" strike="noStrike">
                <a:solidFill>
                  <a:srgbClr val="ff9900"/>
                </a:solidFill>
                <a:latin typeface="Comic Sans MS"/>
              </a:rPr>
              <a:t>Programa d’Informàtica Educativa.</a:t>
            </a:r>
            <a:r>
              <a:rPr b="1" lang="ca-ES" sz="54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1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4400" y="5638680"/>
            <a:ext cx="7510680" cy="799560"/>
            <a:chOff x="914400" y="5638680"/>
            <a:chExt cx="7510680" cy="799560"/>
          </a:xfrm>
        </p:grpSpPr>
        <p:pic>
          <p:nvPicPr>
            <p:cNvPr id="259" name="powe-tit" descr=""/>
            <p:cNvPicPr/>
            <p:nvPr/>
          </p:nvPicPr>
          <p:blipFill>
            <a:blip r:embed="rId2"/>
            <a:stretch/>
          </p:blipFill>
          <p:spPr>
            <a:xfrm>
              <a:off x="914400" y="5638680"/>
              <a:ext cx="25336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441840" y="5791320"/>
              <a:ext cx="198324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2800" spc="-1" strike="noStrike">
                  <a:solidFill>
                    <a:srgbClr val="ffffff"/>
                  </a:solidFill>
                  <a:latin typeface="Comic Sans MS"/>
                </a:rPr>
                <a:t>Juliol 199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743200" y="4114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f3300"/>
                </a:solidFill>
                <a:latin typeface="Arial"/>
              </a:rPr>
              <a:t>Carlos J García-Alzórriz  Pardo.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62" name="pie" descr=""/>
          <p:cNvPicPr/>
          <p:nvPr/>
        </p:nvPicPr>
        <p:blipFill>
          <a:blip r:embed="rId3"/>
          <a:stretch/>
        </p:blipFill>
        <p:spPr>
          <a:xfrm>
            <a:off x="7391520" y="990720"/>
            <a:ext cx="1230120" cy="76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352680" y="4952880"/>
            <a:ext cx="2571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Diapositiva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64" name="left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6" name="left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left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0" y="3240"/>
          <a:ext cx="9372600" cy="70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372600" cy="70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2" name="left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sseny de la diapositiva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seleccioneu l’autodisseny de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Diapositiva de títul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veureu dos marcs de text: un per al títol i l’altre per al subtít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ANTA54" descr=""/>
          <p:cNvPicPr/>
          <p:nvPr/>
        </p:nvPicPr>
        <p:blipFill>
          <a:blip r:embed="rId2"/>
          <a:stretch/>
        </p:blipFill>
        <p:spPr>
          <a:xfrm>
            <a:off x="3495600" y="3782880"/>
            <a:ext cx="3581640" cy="2702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5" name=""/>
          <p:cNvSpPr/>
          <p:nvPr/>
        </p:nvSpPr>
        <p:spPr>
          <a:xfrm>
            <a:off x="3876840" y="3990960"/>
            <a:ext cx="324468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ff9900"/>
                </a:solidFill>
                <a:latin typeface="Arial"/>
              </a:rPr>
              <a:t>Haga clic para agregar  Tit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er afegir una nova diapositiva a la presentaci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Podeu clicar sobre la icona             de la barra d’e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odeu prémer les tecles  </a:t>
            </a:r>
            <a:r>
              <a:rPr b="0" lang="ca-ES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Control +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odeu anar al menú  </a:t>
            </a:r>
            <a:r>
              <a:rPr b="0" lang="ca-ES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Insertar/ Nueva Diapos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Una nova diapositiva. 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8" name="PANTA5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72200" y="2971800"/>
            <a:ext cx="727200" cy="604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er afegir una nova diapositiva a la presentaci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Podeu clicar sobre la icona             de la barra d’e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odeu prémer les tecles 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Control +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odeu anar al menú 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Insertar/ Nueva Diapos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Una nova diapositiva. 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11" name="PANTA56" descr=""/>
          <p:cNvPicPr/>
          <p:nvPr/>
        </p:nvPicPr>
        <p:blipFill>
          <a:blip r:embed="rId2"/>
          <a:stretch/>
        </p:blipFill>
        <p:spPr>
          <a:xfrm>
            <a:off x="6172200" y="2971800"/>
            <a:ext cx="727200" cy="604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848720" y="5562720"/>
            <a:ext cx="600120" cy="6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ANTA57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6340680" cy="3656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4" name="left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5" name=""/>
          <p:cNvSpPr/>
          <p:nvPr/>
        </p:nvSpPr>
        <p:spPr>
          <a:xfrm>
            <a:off x="1826640" y="581040"/>
            <a:ext cx="32590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9900"/>
                </a:solidFill>
                <a:latin typeface="Comic Sans MS"/>
              </a:rPr>
              <a:t>Nova diaposi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sseny de la diapositiva.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seleccioneu el disseny </a:t>
            </a:r>
            <a:r>
              <a:rPr b="1" i="1" lang="ca-ES" sz="3200" spc="-1" strike="noStrike">
                <a:solidFill>
                  <a:srgbClr val="000000"/>
                </a:solidFill>
                <a:latin typeface="Arial"/>
              </a:rPr>
              <a:t>Lista con viñeta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us apareixeran dues seccions: una per al títol i l’altra per al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ANTA55" descr=""/>
          <p:cNvPicPr/>
          <p:nvPr/>
        </p:nvPicPr>
        <p:blipFill>
          <a:blip r:embed="rId2"/>
          <a:stretch/>
        </p:blipFill>
        <p:spPr>
          <a:xfrm>
            <a:off x="2666880" y="3733920"/>
            <a:ext cx="3962520" cy="2759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sseny de la diapositiva.(I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Arial"/>
              </a:rPr>
              <a:t>Lista con viñeta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scriviu el text en la primera vinyeta. Premeu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Retorn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Ja us apareixerà la següent viny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1T17:55:34Z</dcterms:created>
  <dc:creator>Carlos J. García-Alzórriz Pardo</dc:creator>
  <dc:description/>
  <dc:language>en-US</dc:language>
  <cp:lastModifiedBy>Sr. Carlos &amp; Famili</cp:lastModifiedBy>
  <cp:lastPrinted>1998-07-02T08:29:04Z</cp:lastPrinted>
  <dcterms:modified xsi:type="dcterms:W3CDTF">1998-07-28T11:05:24Z</dcterms:modified>
  <cp:revision>44</cp:revision>
  <dc:subject/>
  <dc:title>Presentació de la informació en l’entorn Windows Microsoft PowerPoint</dc:title>
</cp:coreProperties>
</file>