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EAD-C999-47C6-9DA2-23000A75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F03-5D16-42EE-8B08-0466B333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BF2-198A-4BE8-8F54-FF200F47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B64-86D8-4880-9FF9-7B6AEF15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9263-772D-44F6-8D62-6AD475FE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8B21-F811-4D28-B43E-32899751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5F36-0B51-420C-A7DA-B70584D5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F330-60DE-4CA5-B69C-A7A52FA3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BD71-819C-4526-A5CF-37453E5A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7732-9AEE-4195-8ED8-5E5B6BA4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8614-7204-4E58-9D2B-07E83EAC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09F-89D8-40B5-9AC7-05BCD837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064D-7944-4682-969F-11ABFD2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2214-4246-4AD2-AE71-9A5F4C1C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8A2F-CF68-4778-8795-B3DFD9E8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812B-32B0-4C5D-BA10-10036065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9848-6AEA-45BD-96BB-2F3B8474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CF7-A8E8-428E-93EF-CA2B89EB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681-483C-49E1-8FC7-EF2E26AE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13C-5830-4ECE-9DE5-CBD6639B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28B-0CE3-4CAF-ABC2-BA867CBB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DC6-3869-4367-9607-38F1AAA5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60A-3071-4D60-9AC6-979D348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2CB-4558-421C-9EB0-010AA6AE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AE9B-CAF9-4351-B83B-1C35DB92F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004C-FCD3-4BE4-9122-B28C1A29A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2666880"/>
            <a:ext cx="6400800" cy="228600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990720"/>
            <a:ext cx="563868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99"/>
                </a:solidFill>
                <a:latin typeface="Tahoma"/>
              </a:rPr>
              <a:t>B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ffffff"/>
                </a:solidFill>
                <a:latin typeface="Tahoma"/>
              </a:rPr>
              <a:t>Tu tienda de Informàtic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762120"/>
            <a:ext cx="3810240" cy="137160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3276720"/>
            <a:ext cx="5791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589a"/>
                </a:solidFill>
                <a:uFillTx/>
                <a:latin typeface="Trebuchet MS"/>
              </a:rPr>
              <a:t>Compon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589a"/>
                </a:solidFill>
                <a:uFillTx/>
                <a:latin typeface="Trebuchet MS"/>
              </a:rPr>
              <a:t>Ofertas del 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589a"/>
                </a:solidFill>
                <a:uFillTx/>
                <a:latin typeface="Trebuchet MS"/>
              </a:rPr>
              <a:t>Cursil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2209680" y="3809880"/>
            <a:ext cx="228600" cy="304920"/>
          </a:xfrm>
          <a:prstGeom prst="irregularSeal1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286000" y="3352680"/>
            <a:ext cx="228600" cy="304920"/>
          </a:xfrm>
          <a:prstGeom prst="irregularSeal1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2209680" y="4267080"/>
            <a:ext cx="228600" cy="304920"/>
          </a:xfrm>
          <a:prstGeom prst="irregularSeal1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3124080"/>
            <a:ext cx="5791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 u="sng">
                <a:solidFill>
                  <a:srgbClr val="00589a"/>
                </a:solidFill>
                <a:uFillTx/>
                <a:latin typeface="Trebuchet MS"/>
              </a:rPr>
              <a:t>Orden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 u="sng">
                <a:solidFill>
                  <a:srgbClr val="00589a"/>
                </a:solidFill>
                <a:uFillTx/>
                <a:latin typeface="Trebuchet MS"/>
              </a:rPr>
              <a:t>Complem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 u="sng">
                <a:solidFill>
                  <a:srgbClr val="00589a"/>
                </a:solidFill>
                <a:uFillTx/>
                <a:latin typeface="Trebuchet MS"/>
              </a:rPr>
              <a:t>Configur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 u="sng">
                <a:solidFill>
                  <a:srgbClr val="00589a"/>
                </a:solidFill>
                <a:uFillTx/>
                <a:latin typeface="Trebuchet MS"/>
              </a:rPr>
              <a:t>Servicio téc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6019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000">
                <a:solidFill>
                  <a:srgbClr val="ffffff"/>
                </a:solidFill>
                <a:latin typeface="Arial"/>
              </a:rPr>
              <a:t>ME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685800" y="5867280"/>
            <a:ext cx="914400" cy="53352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beep" descr=""/>
          <p:cNvPicPr/>
          <p:nvPr/>
        </p:nvPicPr>
        <p:blipFill>
          <a:blip r:embed="rId1"/>
          <a:stretch/>
        </p:blipFill>
        <p:spPr>
          <a:xfrm>
            <a:off x="4572000" y="3124080"/>
            <a:ext cx="2514600" cy="1549440"/>
          </a:xfrm>
          <a:prstGeom prst="rect">
            <a:avLst/>
          </a:prstGeom>
          <a:ln w="0">
            <a:noFill/>
          </a:ln>
        </p:spPr>
      </p:pic>
      <p:pic>
        <p:nvPicPr>
          <p:cNvPr id="110" name="logo_beep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1600200" cy="501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05320" y="20574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589a"/>
                </a:solidFill>
                <a:latin typeface="Trebuchet MS"/>
              </a:rPr>
              <a:t>© Tu tienda de Informà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6201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486400" y="4495680"/>
            <a:ext cx="1828800" cy="99072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124080"/>
            <a:ext cx="4114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Pentium I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Tarjeta de sonido en pl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CD rom + DV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HDD 7200 rp 90 G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589a"/>
                </a:solidFill>
                <a:latin typeface="Trebuchet MS"/>
              </a:rPr>
              <a:t>128 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6019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000">
                <a:solidFill>
                  <a:srgbClr val="ffffff"/>
                </a:solidFill>
                <a:latin typeface="Arial"/>
              </a:rPr>
              <a:t>ME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logo_beep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1600200" cy="501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505320" y="20574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589a"/>
                </a:solidFill>
                <a:latin typeface="Trebuchet MS"/>
              </a:rPr>
              <a:t>© Tu tienda de Informà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6201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Tahoma"/>
              </a:rPr>
              <a:t>830</a:t>
            </a:r>
            <a:r>
              <a:rPr b="0" lang="ca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Eur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685800" y="5867280"/>
            <a:ext cx="914400" cy="53352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800600" y="3276720"/>
            <a:ext cx="3657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Sistemas Operativos. Win X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Microsoft Off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Progra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Diseño w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6019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000">
                <a:solidFill>
                  <a:srgbClr val="ffffff"/>
                </a:solidFill>
                <a:latin typeface="Arial"/>
              </a:rPr>
              <a:t>ME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logo_beep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1600200" cy="501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625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589a"/>
                </a:solidFill>
                <a:latin typeface="Trebuchet MS"/>
              </a:rPr>
              <a:t>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cursos" descr=""/>
          <p:cNvPicPr/>
          <p:nvPr/>
        </p:nvPicPr>
        <p:blipFill>
          <a:blip r:embed="rId2"/>
          <a:stretch/>
        </p:blipFill>
        <p:spPr>
          <a:xfrm>
            <a:off x="1523880" y="2900520"/>
            <a:ext cx="2362320" cy="26510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685800" y="5867280"/>
            <a:ext cx="914400" cy="53352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16:38:39Z</dcterms:created>
  <dc:creator>Esteve Campins</dc:creator>
  <dc:description/>
  <dc:language>en-US</dc:language>
  <cp:lastModifiedBy>Esteve Campins</cp:lastModifiedBy>
  <dcterms:modified xsi:type="dcterms:W3CDTF">2004-03-02T18:28:27Z</dcterms:modified>
  <cp:revision>13</cp:revision>
  <dc:subject/>
  <dc:title>Sin título de diapositiva</dc:title>
</cp:coreProperties>
</file>