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2F9-B75A-455F-894E-FB1FF88F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26D-CBE9-44CC-BE37-0E71D9D8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F89-D6E3-4CF8-B50E-454BD728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19C-0243-4875-8BAA-1A429AB2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EE8E-E58C-40AD-9A81-A6BA5301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D7CA-6436-4EF8-95D5-CB1E1480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99F8-A143-4E26-80A9-587A72D0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E3CC-3696-478E-85FF-CA9A1993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8D85-8D2E-4440-BAD9-323EEA14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1F47-9EEA-47BD-8B27-A44EAECE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6C34-F22E-433C-BC59-67631C38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DA6-33A9-421D-9BDA-F6F3BD59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C3C4-F566-468E-BDCA-E2A5E786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70B0-B7DE-4E92-9292-F73932A8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DD12-B614-466E-8006-7084C879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B454-B668-418F-82D5-21C281E0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7EEB-7D19-4A78-94D5-A0DFB616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83F-6B09-4A52-A75B-EDA55781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443F-232B-4FD7-A168-3151B129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C9B-0848-400C-8131-D84FDBCD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251-75C2-405F-A534-E0A44FB8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F9A-648B-436D-8FCC-0F04EFA9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8F4-E98E-4388-93AF-60736D4C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FAD-0F11-49CA-8D39-70C994A8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95B7-DCBF-4CDB-B9A1-70940A80D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A4FA-67E8-445F-84E6-3E3EEDF87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14600" y="533520"/>
            <a:ext cx="4343400" cy="3657600"/>
          </a:xfrm>
          <a:prstGeom prst="star5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9999"/>
                </a:solidFill>
                <a:latin typeface="Verdana"/>
              </a:rPr>
              <a:t>LA C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7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Tratado constitutivo de la Comunidad Económica Europea.</a:t>
            </a: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ee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7200" y="447840"/>
            <a:ext cx="8229600" cy="59623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9999"/>
                </a:solidFill>
                <a:latin typeface="Verdana"/>
              </a:rPr>
              <a:t>LA C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4038480"/>
          <a:ext cx="8074080" cy="17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807408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7:45:45Z</dcterms:created>
  <dc:creator>Esteve Campins</dc:creator>
  <dc:description/>
  <dc:language>en-US</dc:language>
  <cp:lastModifiedBy>Esteve Campins</cp:lastModifiedBy>
  <dcterms:modified xsi:type="dcterms:W3CDTF">2004-03-02T15:21:04Z</dcterms:modified>
  <cp:revision>11</cp:revision>
  <dc:subject/>
  <dc:title>LA CEE</dc:title>
</cp:coreProperties>
</file>