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99E-5267-432A-9BA0-16E1AA9B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EAB-D283-4D95-8EEF-F4B2A149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D2F-A9E6-497B-994B-3FBF2D73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935-1A32-42B1-9817-C5CC903F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C1F-3BFF-4921-AB9E-319B6B32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EA6-A5FB-4E1B-ADFF-2E364883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103-C0A7-4A4A-BB69-B8CD370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F6B5-7E06-48AA-A32D-7437182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C88-A539-4966-8920-1B594096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2116-6A5F-484A-AA80-16BC2875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CB41-6D57-4810-9FC1-BA8D8B1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D99-9607-4D98-8F01-DE1A6504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76D-8334-4E73-9400-4689332B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FF0F-FF1D-421E-AC0D-A27E526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936-5C56-4CB2-AA3F-71CFBC30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2349-3EB3-4618-8BDF-3B52CAE5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8388-8897-4906-92FE-216B1872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8A6-8F4D-41AD-9485-ECAFB0B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D0F-3F10-49F6-9CCC-3E94393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526-4285-4F0B-B88D-26588B1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DD1-6CC6-435B-ACDE-D402B7F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A85-1D76-46FF-BB7E-D479A499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802-8A70-40BF-8191-5AF638C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7D5-BF64-4E3F-92E6-442A7253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F92-4D32-422E-B982-F46CAF898579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¡NO</a:t>
            </a:r>
            <a:br>
              <a:rPr sz="2800"/>
            </a:b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FALTE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20A-428A-4037-84E9-2AF6D459B548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Windows 98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Algunas características del sistema operativo de Microsoft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NOMBRE DEL EVENTO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Hor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Fech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Lugar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Más información importante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material necesario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instrucciones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Teléfono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7:13Z</dcterms:created>
  <dc:creator>Esteve Campins</dc:creator>
  <dc:description/>
  <dc:language>en-US</dc:language>
  <cp:lastModifiedBy>Esteve Campins</cp:lastModifiedBy>
  <dcterms:modified xsi:type="dcterms:W3CDTF">2003-06-27T10:33:07Z</dcterms:modified>
  <cp:revision>1</cp:revision>
  <dc:subject/>
  <dc:title>Windows 98</dc:title>
</cp:coreProperties>
</file>