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CEF-32C1-4897-9EBA-ECCF30A2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911-925C-4B6E-83E7-7BF91A85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DAD-8294-48B5-A086-62C1162C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5C6-6CDA-4F90-9BAA-D3C53155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5A40-505B-4267-958A-75FAE746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C5E-DE8C-4979-A656-D660A778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9C7-37D5-4F7F-9246-DFA26531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598-23BD-4B67-AAA5-B7C8EE2E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897-B2B6-4979-997F-B8ACDA3C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152-28CC-4CBF-9A80-F65D319D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ACE-050C-4AED-8524-9CEC5529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D9D-A4C5-41F9-A9A0-722FC927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ADAA-79A6-4DEF-B169-0689451CA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1087560"/>
          <a:ext cx="6477120" cy="4854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87560"/>
                    <a:ext cx="64771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7:46:15Z</dcterms:created>
  <dc:creator>Esteve Campins</dc:creator>
  <dc:description/>
  <dc:language>en-US</dc:language>
  <cp:lastModifiedBy>Esteve Campins</cp:lastModifiedBy>
  <dcterms:modified xsi:type="dcterms:W3CDTF">2004-01-22T17:56:20Z</dcterms:modified>
  <cp:revision>3</cp:revision>
  <dc:subject/>
  <dc:title>Sin título de diapositiva</dc:title>
</cp:coreProperties>
</file>