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ARPEGIO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E94D-536A-4697-A714-FD12D5B34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3598-68CA-4828-85EE-6CE5B2C63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7618-4C22-4412-BD1E-F451CDBB7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9EF4-88A6-493A-8A87-8BDA6D205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050A-DC8D-464F-BD69-FACF3F557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47C1-BEA5-4CAB-A3DA-6630D6605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2912-3908-413B-A309-BD864010B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8657-4D38-4BC7-A7B5-FBDE99701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8FC7-0A28-4FFE-B8A8-80B49C1A7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3DA1-3C41-4B52-8067-7A149BC8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80B8-DA2D-4ECD-9ED4-01CAAD5C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2077-5BD6-418F-890F-CB6BC3B16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C958B-0586-484D-A650-D798C549C4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ARPEGIO.WAV" TargetMode="External"/><Relationship Id="rId2" Type="http://schemas.microsoft.com/office/2007/relationships/media" Target="file:///tmp/home/.config/libreoffice/4/user/gallery/ARPEGIO.WAV" TargetMode="External"/><Relationship Id="rId3" Type="http://schemas.openxmlformats.org/officeDocument/2006/relationships/image" Target="../media/image1.png"/><Relationship Id="rId4" Type="http://schemas.openxmlformats.org/officeDocument/2006/relationships/audio" Target="../media/ARPEGIO.WAV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6477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600" spc="-1" strike="noStrike">
                <a:solidFill>
                  <a:srgbClr val="0066ff"/>
                </a:solidFill>
                <a:latin typeface="Tahoma"/>
              </a:rPr>
              <a:t>La Nutrició i l’Alimentaci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66320" y="1828800"/>
            <a:ext cx="3505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8080"/>
                </a:solidFill>
                <a:latin typeface="Times New Roman"/>
              </a:rPr>
              <a:t>Ciències de la Naturale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38080" y="457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  <p:sndAc>
      <p:stSnd>
        <p:snd r:embed="rId4" name="ARPEGIO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000000"/>
                </a:solidFill>
                <a:latin typeface="Times New Roman"/>
              </a:rPr>
              <a:t>Els nutrients i les seves funcion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Times New Roman"/>
              </a:rPr>
              <a:t>Les funcions bàsiques s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Times New Roman"/>
              </a:rPr>
              <a:t>Aportar l’energia necessària per al bon funcionament de l’organis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Times New Roman"/>
              </a:rPr>
              <a:t>Aportar els materials necessaris per a la formació de noves estructures corpor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Times New Roman"/>
              </a:rPr>
              <a:t>Intervenir en la regulació de totes les reaccions que tenen lloc al c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000000"/>
                </a:solidFill>
                <a:latin typeface="Times New Roman"/>
              </a:rPr>
              <a:t>Els aliments s’agrupe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Times New Roman"/>
              </a:rPr>
              <a:t>Glúcids o hidrats de carbo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Times New Roman"/>
              </a:rPr>
              <a:t>Lípids o greix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Times New Roman"/>
              </a:rPr>
              <a:t>Vitam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Times New Roman"/>
              </a:rPr>
              <a:t>Elements miner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Times New Roman"/>
              </a:rPr>
              <a:t>Aigu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000000"/>
                </a:solidFill>
                <a:latin typeface="Times New Roman"/>
              </a:rPr>
              <a:t>Els glúc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Times New Roman"/>
              </a:rPr>
              <a:t>La principal funció dels glúcids és la producció d’energ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854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Times New Roman"/>
              </a:rPr>
              <a:t>Monosacàrids: glucosa, fructuosa i galacto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854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Times New Roman"/>
              </a:rPr>
              <a:t>Disacàrids: sacarosa, lactosa i malto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854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Times New Roman"/>
              </a:rPr>
              <a:t>Polisacàrids: midó, glicogen i cel·lulo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000000"/>
                </a:solidFill>
                <a:latin typeface="Times New Roman"/>
              </a:rPr>
              <a:t>Els greix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Times New Roman"/>
              </a:rPr>
              <a:t>Els greixos són nutrients rics en energia  i s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Times New Roman"/>
              </a:rPr>
              <a:t>d’origen animal: carn de porc, xai, ànec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Times New Roman"/>
              </a:rPr>
              <a:t>d’origen vegetal: olives, avellanes, soja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000000"/>
                </a:solidFill>
                <a:latin typeface="Times New Roman"/>
              </a:rPr>
              <a:t>Les proteï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Times New Roman"/>
              </a:rPr>
              <a:t>Les proteïnes són uns nutrients fonamentals que l’organisme utilitza per formar les seves estructu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000000"/>
                </a:solidFill>
                <a:latin typeface="Times New Roman"/>
              </a:rPr>
              <a:t>Les vitam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Times New Roman"/>
              </a:rPr>
              <a:t>Les vitamines són nutrients que regulen el metabolísme humà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2477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Times New Roman"/>
              </a:rPr>
              <a:t>Es divideixen en dos gru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4776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Times New Roman"/>
              </a:rPr>
              <a:t>liposolubles : A, D, E,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4776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Times New Roman"/>
              </a:rPr>
              <a:t>hidrosolubles: B, C,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000000"/>
                </a:solidFill>
                <a:latin typeface="Times New Roman"/>
              </a:rPr>
              <a:t>Els miner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spcBef>
                <a:spcPts val="799"/>
              </a:spcBef>
              <a:buNone/>
              <a:tabLst>
                <a:tab algn="l" pos="0"/>
                <a:tab algn="l" pos="113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Times New Roman"/>
              </a:rPr>
              <a:t>Els minerals són nutrients inorgànics que desenvolupen tres tipus de func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0">
              <a:spcBef>
                <a:spcPts val="799"/>
              </a:spcBef>
              <a:buNone/>
              <a:tabLst>
                <a:tab algn="l" pos="0"/>
                <a:tab algn="l" pos="113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200340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133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Times New Roman"/>
              </a:rPr>
              <a:t>formen una part important de certes estructures del 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00340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133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Times New Roman"/>
              </a:rPr>
              <a:t>són components de líquids orgànic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00340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133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Times New Roman"/>
              </a:rPr>
              <a:t>actuen com a reguladors de reacc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000000"/>
                </a:solidFill>
                <a:latin typeface="Times New Roman"/>
              </a:rPr>
              <a:t>L’aigu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Times New Roman"/>
              </a:rPr>
              <a:t>L’aigua és el component fonamental dels éssers vi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1T22:40:22Z</dcterms:created>
  <dc:creator>Sr. Carlos &amp; Famili</dc:creator>
  <dc:description/>
  <dc:language>en-US</dc:language>
  <cp:lastModifiedBy>Esteve Campins</cp:lastModifiedBy>
  <dcterms:modified xsi:type="dcterms:W3CDTF">2003-06-30T16:42:34Z</dcterms:modified>
  <cp:revision>11</cp:revision>
  <dc:subject/>
  <dc:title>La Nutrició i la Alimentació</dc:title>
</cp:coreProperties>
</file>