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7C98-4E1E-470F-B6DC-989EA0265180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9320" y="44197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 de portada. Títol, nivell i curs a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FC9-757A-4A3F-9681-DD3B88F3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C77-B6A9-4600-9EBE-66E3D71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7AC-4164-44B6-95A8-BD4DBAB8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DFC-DCB1-472B-A373-907673C1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D65-B9DD-41D5-BFD7-58BA7DA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6D4-6D2A-4E11-94C4-FCC24B16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BD9-AF8E-422D-9285-F686FCE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13C-EFAD-467B-9E41-C4EC29A6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26E-3B23-4FD6-ACC4-EB03D11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15B-1095-465E-8622-8DF69DE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0E8-D7C9-49FA-8F7E-6E9F081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2CB-44A3-4AA5-BE40-A4FA88B4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B0DE-DC4F-4084-888D-A72BAE8D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tip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773360" cy="234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10666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Iniciació a la Informà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4ESO -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675440"/>
            <a:ext cx="533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66cc"/>
                </a:solidFill>
                <a:latin typeface="Tahoma"/>
              </a:rPr>
              <a:t>Unitats didàcti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3200040"/>
            <a:ext cx="609588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Sistemes operat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Unitats locals i xarxes d’ordinad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Gestió de bases de 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Disseny de continguts multimè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El full de càlc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La xarxa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9:12:00Z</dcterms:created>
  <dc:creator>Esteve Campins</dc:creator>
  <dc:description/>
  <dc:language>en-US</dc:language>
  <cp:lastModifiedBy>Esteve Campins</cp:lastModifiedBy>
  <dcterms:modified xsi:type="dcterms:W3CDTF">2003-06-27T09:55:41Z</dcterms:modified>
  <cp:revision>1</cp:revision>
  <dc:subject/>
  <dc:title>Sin título de diapositiva</dc:title>
</cp:coreProperties>
</file>