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9FC-BBBE-42D3-A841-EE4C0CBE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488-AAD8-4A82-AC87-8507568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C48-8A0A-4A9A-9928-AB7E7BA3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901-26C9-4921-9F73-6D59A0B4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6A9-E099-44B2-ADBF-2249D61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DD1-CD9C-4394-B781-0CDFACFF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E51-8638-4A7E-A7A8-955A5694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6CA-1152-414A-876D-4B7FD39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994-5AC0-49C0-860B-3C67E0C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0DB-C170-4EA2-8FC0-FF27B44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7C1-8546-4FB3-BD7E-0110D76E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6E4-FABF-42B5-BAE5-AB3800D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A07-F996-4D88-B742-AA838C1C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0066"/>
                </a:solidFill>
                <a:latin typeface="Mistral"/>
              </a:rPr>
              <a:t>Els principis inmedia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Func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3333cc"/>
                </a:solidFill>
                <a:uFillTx/>
                <a:latin typeface="Trebuchet MS"/>
              </a:rPr>
              <a:t>Les funcions bàsiques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Arial Narrow"/>
              </a:rPr>
              <a:t>Aportar l'energia necessària per al bon funcionament de l'organ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Arial Narrow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Arial Narrow"/>
              </a:rPr>
              <a:t>Intervenir en la regulació de totes les reaccions que tenen lloc al cos.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7:50:29Z</dcterms:created>
  <dc:creator>Esteve Campins</dc:creator>
  <dc:description>Funcions bàsiques dels principis inmediats.</dc:description>
  <dc:language>en-US</dc:language>
  <cp:lastModifiedBy>Esteve Campins</cp:lastModifiedBy>
  <dcterms:modified xsi:type="dcterms:W3CDTF">2002-11-11T18:10:40Z</dcterms:modified>
  <cp:revision>2</cp:revision>
  <dc:subject/>
  <dc:title>Els principis inmediats</dc:title>
</cp:coreProperties>
</file>