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821-DF08-4825-B0C0-EC913A12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EEE-FB70-445D-9055-D106AA59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DCF-D468-4D13-8ED9-E0D1F1A6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35F-504F-4922-BA5D-49D941DF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0D19-B762-4942-8E00-CD7D8039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FE2C-14AE-4C25-9D8B-45B63D91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2255-A9A6-460E-BFF9-8937BC46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08C9-A0C7-467F-8A2A-1A040B50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D266-ACA1-4621-B43A-6DD555F9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1EDC-10A4-4F23-8390-222C93BD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2BE6-258F-4786-8A67-9248603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B9C-1309-4F2A-B52D-523E6FD7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0F89-BD3B-4FAD-BDD9-66D4E17C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9C6B-8539-4367-9F63-0A9D3AA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C8D6-2E04-42F5-B11D-D94A517F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2E67-927D-4B38-8496-9F0563A8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96C6-23EF-48EB-A65D-04344FE6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0F3-6973-4F19-A414-E01D04E2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063-E725-4B76-A061-EBE6D3D7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1BC-F319-4EE9-90AE-12CD1134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572-BF51-4345-BB3E-BC66A6AD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704-CAB4-46E6-954E-16DA9C3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29B-7A7E-4B41-A83B-51486EA9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596-C6BF-411F-AC6F-1D1EA929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D6D6-6B5D-4B62-BA7D-F9ECFD291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7A4-D1B6-4DCC-A11A-D4B4F98E2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bcbcb"/>
                </a:solidFill>
                <a:latin typeface="Times New Roman"/>
              </a:rPr>
              <a:t>Presentació del Cu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Matèria optativa pels alumnes de 4Eso que no facin Tecnolog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Totes les sessions a l’aula Informàtic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Dues hores lectives setman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Grups ( màx. 2 alumnes per ordinador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bcbcb"/>
                </a:solidFill>
                <a:latin typeface="Times New Roman"/>
              </a:rPr>
              <a:t>Introducció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Objectius de la matè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Manual Alum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Unitats didàcti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Qualificacions i avaluaci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3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Grups de tre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Materials en format digi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Arxius de pràcti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Demostracions i dubtes personalitza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bcbcb"/>
                </a:solidFill>
                <a:latin typeface="Times New Roman"/>
              </a:rPr>
              <a:t>Metodologia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7:03:33Z</dcterms:created>
  <dc:creator>Esteve Campins</dc:creator>
  <dc:description/>
  <dc:language>en-US</dc:language>
  <cp:lastModifiedBy>Esteve Campins</cp:lastModifiedBy>
  <dcterms:modified xsi:type="dcterms:W3CDTF">2003-06-28T08:52:47Z</dcterms:modified>
  <cp:revision>4</cp:revision>
  <dc:subject/>
  <dc:title>Presentació del Curs</dc:title>
</cp:coreProperties>
</file>