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7A7-0D55-4629-B25E-B7C1FDF4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6DE-29D6-441D-9F5E-BEC4012E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C76-E73A-4477-9E22-225C76C7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FCA-A6AF-4DE2-9DFC-68A3C375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BE5-BB93-4E29-8F48-32739775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4A2-8340-4F6D-8F70-EAF2A9EF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B96-CF82-4E42-9B78-4326514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231-EE85-4DF9-AA57-80929DE1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910-7BEC-4A72-9D10-F4B480EA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F27-D371-40DF-ADBE-C9A904B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44F-4D97-4CCD-A6A0-CB44BBA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331-FDC8-4111-96FF-0AB557F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9742-9B88-4EB7-A688-7CBAD6151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00"/>
                </a:solidFill>
                <a:latin typeface="Arial"/>
              </a:rPr>
              <a:t>La Nutrició i l’ Alimentaci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cc99"/>
                </a:solidFill>
                <a:latin typeface="Times New Roman"/>
              </a:rPr>
              <a:t>Ciències de la Natural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0000"/>
                </a:solidFill>
                <a:latin typeface="Arial"/>
              </a:rPr>
              <a:t>Els nutrients i les seves funcions</a:t>
            </a: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Aportar els materials necessaris per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99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aliments s’agrupen en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Glúcids o hidrats de carbo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Lípids o greix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Vitam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Elements mine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00"/>
                </a:solidFill>
                <a:latin typeface="Times New Roman"/>
              </a:rPr>
              <a:t>Ai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glúci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Monosacàrids: glucosa, fructuosa i gala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Disacàrids: sacarosa, lactosa i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Polisacàrids: midó, glicogen i cel·lul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d’origen anim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carn de porc, xai, ànec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d’origen vege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olives, avellanes,soia,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66"/>
                </a:solidFill>
                <a:latin typeface="Times New Roman"/>
              </a:rPr>
              <a:t>Les proteïnes són uns nutrients fonamentals que l’organisme utilitza per forma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57600" y="3079800"/>
            <a:ext cx="5029200" cy="377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5960" y="402912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Estructura d’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9933"/>
                </a:solidFill>
                <a:latin typeface="Times New Roman"/>
              </a:rPr>
              <a:t>proteïn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Les vitamines són nutrients que regulen el ma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ff00"/>
                </a:solidFill>
                <a:latin typeface="Times New Roman"/>
              </a:rPr>
              <a:t>Els minerals són nutrients inorgànics que desenvolupen tres tipus de funci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ff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ff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0066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276360" cy="291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373392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9933"/>
                </a:solidFill>
                <a:latin typeface="Times New Roman"/>
              </a:rPr>
              <a:t>La molécula d’aigu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6T10:19:44Z</dcterms:created>
  <dc:creator>Sr. Carlos &amp; Famili</dc:creator>
  <dc:description/>
  <dc:language>en-US</dc:language>
  <cp:lastModifiedBy>PIE</cp:lastModifiedBy>
  <dcterms:modified xsi:type="dcterms:W3CDTF">1998-07-06T09:52:40Z</dcterms:modified>
  <cp:revision>5</cp:revision>
  <dc:subject/>
  <dc:title>La Nutrició i la Alimentació</dc:title>
</cp:coreProperties>
</file>