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F47-6E6A-4582-B856-39B8AEBA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368-07AF-482B-82CF-4552E4C2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5B7-7875-4A45-80FA-D16E7D3B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90E-0078-48B6-A3A1-639BD47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70B-CA72-449F-99DC-51B9B8B4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2F5-4D1F-4020-A46A-B0F0A9A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23B-DDA6-4C7C-B775-97B44085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1C0-1C53-4011-BC80-1B5FF42D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C2D-EB2E-42FA-A68A-03E60117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C33-7C12-49D4-9129-EB22EF3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833-E2EC-4FDC-874C-F25C1AEB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FA9-A87C-4BF4-B02C-901DD39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4635-9CCD-47D7-A6F4-F50D4A7B2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E:\Presentacions\cam.ex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3333cc"/>
                </a:solidFill>
                <a:latin typeface="Times New Roman"/>
              </a:rPr>
              <a:t>Microsoft Camcor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914400"/>
            <a:ext cx="1218960" cy="11556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52480" y="1143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El Microsoft Camcorder el podeu executar de la següent mane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/>
          </p:cNvPr>
          <p:cNvSpPr/>
          <p:nvPr/>
        </p:nvSpPr>
        <p:spPr>
          <a:xfrm>
            <a:off x="2971800" y="3886200"/>
            <a:ext cx="3048120" cy="762120"/>
          </a:xfrm>
          <a:custGeom>
            <a:avLst/>
            <a:gdLst>
              <a:gd name="textAreaLeft" fmla="*/ 83880 w 3048120"/>
              <a:gd name="textAreaRight" fmla="*/ 2964240 w 3048120"/>
              <a:gd name="textAreaTop" fmla="*/ 83880 h 762120"/>
              <a:gd name="textAreaBottom" fmla="*/ 678240 h 76212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3977" y="2382"/>
                </a:lnTo>
                <a:lnTo>
                  <a:pt x="2382" y="2382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3977" y="19218"/>
                </a:lnTo>
                <a:lnTo>
                  <a:pt x="83977" y="2382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2382" y="19218"/>
                </a:lnTo>
                <a:lnTo>
                  <a:pt x="83977" y="19218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2382" y="2382"/>
                </a:lnTo>
                <a:lnTo>
                  <a:pt x="2382" y="19218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remeu aqu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723888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in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914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Dins el menú File podeu fer el segü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3276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rir un enregistr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65040" y="281844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rear un enregistr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60360" y="365652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ar un enregistr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69000" y="4266000"/>
            <a:ext cx="32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rear un enregistra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utoexec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37280" y="2895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37280" y="3276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3733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37280" y="42670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7520" y="2514600"/>
            <a:ext cx="4570200" cy="371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7238880" y="58672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52480" y="914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Dins el menú Movie podeu fer el segü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2743200" cy="210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165560" y="3275640"/>
            <a:ext cx="34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produir l’ enregistr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5440" y="373284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turar l’ enregistrament/reproduc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3960" y="4190040"/>
            <a:ext cx="35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ençar l’ enregistr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9040" y="4702320"/>
            <a:ext cx="3041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3300"/>
                </a:solidFill>
                <a:uFillTx/>
                <a:latin typeface="Comic Sans MS"/>
                <a:hlinkClick r:id="rId3" action="ppaction://hlinksldjump"/>
              </a:rPr>
              <a:t>Canviar </a:t>
            </a:r>
            <a:r>
              <a:rPr b="0" lang="es-ES_tradnl" sz="2000" spc="-1" strike="noStrike" u="sng">
                <a:solidFill>
                  <a:srgbClr val="ff3300"/>
                </a:solidFill>
                <a:uFillTx/>
                <a:latin typeface="Comic Sans MS"/>
                <a:hlinkClick r:id="rId4" action="ppaction://hlinksldjump"/>
              </a:rPr>
              <a:t>les </a:t>
            </a:r>
            <a:r>
              <a:rPr b="0" lang="es-ES_tradnl" sz="2000" spc="-1" strike="noStrike" u="sng">
                <a:solidFill>
                  <a:srgbClr val="ff3300"/>
                </a:solidFill>
                <a:uFillTx/>
                <a:latin typeface="Comic Sans MS"/>
                <a:hlinkClick r:id="rId5" action="ppaction://hlinksldjump"/>
              </a:rPr>
              <a:t>prefer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352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3733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2670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724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6" action="ppaction://hlinksldjump"/>
          </p:cNvPr>
          <p:cNvSpPr/>
          <p:nvPr/>
        </p:nvSpPr>
        <p:spPr>
          <a:xfrm>
            <a:off x="7238880" y="58672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52480" y="914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Dins el menú Help podeu fer el segü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3504960" cy="131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5910480" y="31993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emes d’ay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18760" y="380916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uant al Camc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48440" y="3276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48440" y="38098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7238880" y="58672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60948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Dins el submenú Preferences podeu fer el segü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82248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083560" y="243756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nviar la qualitat del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266000"/>
            <a:ext cx="334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Definir  les tecles per aturar la grava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104440"/>
            <a:ext cx="31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nviar opcions les opcions de visualitza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86320" y="25146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06840" y="4267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11520" y="5181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7238880" y="58672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1T21:50:04Z</dcterms:created>
  <dc:creator>PIE</dc:creator>
  <dc:description/>
  <dc:language>en-US</dc:language>
  <cp:lastModifiedBy>Sr. Carlos &amp; Famili</cp:lastModifiedBy>
  <dcterms:modified xsi:type="dcterms:W3CDTF">1999-06-29T06:28:08Z</dcterms:modified>
  <cp:revision>50</cp:revision>
  <dc:subject/>
  <dc:title>Microsoft Camcorder</dc:title>
</cp:coreProperties>
</file>