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2BB8-213A-4C62-82B8-52273F1C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77FA-7CB6-4338-AF8D-D020C8A0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C6B-DA5A-4562-8010-48AB3F7F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A0E4-FD7B-4F98-B84E-92B2AF34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2E80-306B-4E2E-8B27-7BD6ECE3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097-8FC0-4206-9C05-34896C89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8DCE-7F0F-4419-BC22-4903E5D5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C929-FFAD-4E6D-B039-5FFFB028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201-77CC-4459-82E6-EA870699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3765-98E5-4F7A-9945-547A09FB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EEB-D66F-49E8-82D5-D4BAA69E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0599-3AF6-49D1-A756-CDB4348B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B412-9FC0-4B36-BA6C-78A9AEDB9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6.xml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6.xm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6.xml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udwing van Beetho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1770-18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657600" y="3124080"/>
          <a:ext cx="2144880" cy="29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124080"/>
                    <a:ext cx="214488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Gloss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990720"/>
            <a:ext cx="876312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Minuet :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ansa francesa, de tres temps, que apareix al s XVII que acaba adaptantse a la sonata clàss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Opus: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terme emprat per molts compositirs per indicar la posició cronlògica de cada obra dins llur producció musi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Quartet :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composuició musical per a quatre instruments o ve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Simfonia: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Composició per a orques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Sonata: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Composició instrumental per a solista o per a petit conjunt de camb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5943600" y="380880"/>
            <a:ext cx="2590920" cy="609840"/>
          </a:xfrm>
          <a:custGeom>
            <a:avLst/>
            <a:gdLst>
              <a:gd name="textAreaLeft" fmla="*/ 66600 w 2590920"/>
              <a:gd name="textAreaRight" fmla="*/ 2524320 w 2590920"/>
              <a:gd name="textAreaTop" fmla="*/ 66600 h 609840"/>
              <a:gd name="textAreaBottom" fmla="*/ 543240 h 609840"/>
            </a:gdLst>
            <a:ahLst/>
            <a:rect l="textAreaLeft" t="textAreaTop" r="textAreaRight" b="textAreaBottom"/>
            <a:pathLst>
              <a:path w="91727" h="21600">
                <a:moveTo>
                  <a:pt x="0" y="0"/>
                </a:moveTo>
                <a:lnTo>
                  <a:pt x="91727" y="0"/>
                </a:lnTo>
                <a:lnTo>
                  <a:pt x="91727" y="21600"/>
                </a:lnTo>
                <a:lnTo>
                  <a:pt x="0" y="21600"/>
                </a:lnTo>
                <a:close/>
              </a:path>
              <a:path fill="lightenLess" w="91727" h="21600">
                <a:moveTo>
                  <a:pt x="0" y="0"/>
                </a:moveTo>
                <a:lnTo>
                  <a:pt x="91727" y="0"/>
                </a:lnTo>
                <a:lnTo>
                  <a:pt x="89364" y="2363"/>
                </a:lnTo>
                <a:lnTo>
                  <a:pt x="2363" y="2363"/>
                </a:lnTo>
                <a:close/>
              </a:path>
              <a:path fill="darken" w="91727" h="21600">
                <a:moveTo>
                  <a:pt x="91727" y="0"/>
                </a:moveTo>
                <a:lnTo>
                  <a:pt x="91727" y="21600"/>
                </a:lnTo>
                <a:lnTo>
                  <a:pt x="89364" y="19237"/>
                </a:lnTo>
                <a:lnTo>
                  <a:pt x="89364" y="2363"/>
                </a:lnTo>
                <a:close/>
              </a:path>
              <a:path fill="darkenLess" w="91727" h="21600">
                <a:moveTo>
                  <a:pt x="91727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89364" y="19237"/>
                </a:lnTo>
                <a:close/>
              </a:path>
              <a:path fill="lighten" w="91727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scullir f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nt d’informa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 material que s’ha utlitzat per confeccionar aquesta presentació s’ha extret de l’Enciclopèdia Microsoft Encarta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scull un t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3200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1295280" y="2362320"/>
            <a:ext cx="2971800" cy="1066680"/>
          </a:xfrm>
          <a:custGeom>
            <a:avLst/>
            <a:gdLst>
              <a:gd name="textAreaLeft" fmla="*/ 69120 w 2971800"/>
              <a:gd name="textAreaRight" fmla="*/ 2902680 w 2971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0165" h="21600">
                <a:moveTo>
                  <a:pt x="0" y="0"/>
                </a:moveTo>
                <a:lnTo>
                  <a:pt x="60165" y="0"/>
                </a:lnTo>
                <a:lnTo>
                  <a:pt x="60165" y="21600"/>
                </a:lnTo>
                <a:lnTo>
                  <a:pt x="0" y="21600"/>
                </a:lnTo>
                <a:close/>
              </a:path>
              <a:path fill="lightenLess" w="60165" h="21600">
                <a:moveTo>
                  <a:pt x="0" y="0"/>
                </a:moveTo>
                <a:lnTo>
                  <a:pt x="60165" y="0"/>
                </a:lnTo>
                <a:lnTo>
                  <a:pt x="58765" y="1400"/>
                </a:lnTo>
                <a:lnTo>
                  <a:pt x="1400" y="1400"/>
                </a:lnTo>
                <a:close/>
              </a:path>
              <a:path fill="darken" w="60165" h="21600">
                <a:moveTo>
                  <a:pt x="60165" y="0"/>
                </a:moveTo>
                <a:lnTo>
                  <a:pt x="60165" y="21600"/>
                </a:lnTo>
                <a:lnTo>
                  <a:pt x="58765" y="20200"/>
                </a:lnTo>
                <a:lnTo>
                  <a:pt x="58765" y="1400"/>
                </a:lnTo>
                <a:close/>
              </a:path>
              <a:path fill="darkenLess" w="60165" h="21600">
                <a:moveTo>
                  <a:pt x="60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765" y="20200"/>
                </a:lnTo>
                <a:close/>
              </a:path>
              <a:path fill="lighten" w="60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La seva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1295280" y="4038480"/>
            <a:ext cx="2971800" cy="1067040"/>
          </a:xfrm>
          <a:custGeom>
            <a:avLst/>
            <a:gdLst>
              <a:gd name="textAreaLeft" fmla="*/ 69120 w 2971800"/>
              <a:gd name="textAreaRight" fmla="*/ 2902680 w 29718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60145" h="21600">
                <a:moveTo>
                  <a:pt x="0" y="0"/>
                </a:moveTo>
                <a:lnTo>
                  <a:pt x="60145" y="0"/>
                </a:lnTo>
                <a:lnTo>
                  <a:pt x="60145" y="21600"/>
                </a:lnTo>
                <a:lnTo>
                  <a:pt x="0" y="21600"/>
                </a:lnTo>
                <a:close/>
              </a:path>
              <a:path fill="lightenLess" w="60145" h="21600">
                <a:moveTo>
                  <a:pt x="0" y="0"/>
                </a:moveTo>
                <a:lnTo>
                  <a:pt x="60145" y="0"/>
                </a:lnTo>
                <a:lnTo>
                  <a:pt x="58745" y="1400"/>
                </a:lnTo>
                <a:lnTo>
                  <a:pt x="1400" y="1400"/>
                </a:lnTo>
                <a:close/>
              </a:path>
              <a:path fill="darken" w="60145" h="21600">
                <a:moveTo>
                  <a:pt x="60145" y="0"/>
                </a:moveTo>
                <a:lnTo>
                  <a:pt x="60145" y="21600"/>
                </a:lnTo>
                <a:lnTo>
                  <a:pt x="58745" y="20200"/>
                </a:lnTo>
                <a:lnTo>
                  <a:pt x="58745" y="1400"/>
                </a:lnTo>
                <a:close/>
              </a:path>
              <a:path fill="darkenLess" w="60145" h="21600">
                <a:moveTo>
                  <a:pt x="60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745" y="20200"/>
                </a:lnTo>
                <a:close/>
              </a:path>
              <a:path fill="lighten" w="60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La seva o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6781680" y="5791320"/>
            <a:ext cx="1371600" cy="685800"/>
          </a:xfrm>
          <a:custGeom>
            <a:avLst/>
            <a:gdLst>
              <a:gd name="textAreaLeft" fmla="*/ 108360 w 1371600"/>
              <a:gd name="textAreaRight" fmla="*/ 1263240 w 1371600"/>
              <a:gd name="textAreaTop" fmla="*/ 108360 h 685800"/>
              <a:gd name="textAreaBottom" fmla="*/ 57744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39776" y="3413"/>
                </a:lnTo>
                <a:lnTo>
                  <a:pt x="3413" y="3413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39776" y="18187"/>
                </a:lnTo>
                <a:lnTo>
                  <a:pt x="39776" y="3413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3413" y="18187"/>
                </a:lnTo>
                <a:lnTo>
                  <a:pt x="39776" y="18187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3413" y="3413"/>
                </a:lnTo>
                <a:lnTo>
                  <a:pt x="3413" y="18187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Arial"/>
              </a:rPr>
              <a:t>Sorti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a vida de Beetho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44576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Beethoven va néixer el 16 de Desembre del 1770 a Bonn (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Alemanya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). Anà a Viena a rebre lliçons de Mozart i posteriorment de Haydn. Ben aviat sobresortí pels seus dots de compositor i de pianista.</a:t>
            </a: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seva influència sobre generacions venidores fou inesborrable, car promogué la transformació de la música occidental, de la qual és, potser, el compositor més representatiu. Va morir el 1827 a Viena (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Àustria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380880" y="3808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810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6520" y="2819160"/>
            <a:ext cx="35053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cc33"/>
                </a:solidFill>
                <a:latin typeface="Times New Roman"/>
              </a:rPr>
              <a:t>ALEMANY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380880" y="3808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58760"/>
            <a:ext cx="9144000" cy="762624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380880" y="3808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2362320"/>
            <a:ext cx="3810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a seva o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98108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’hi poden distingir tres fas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1143000" y="2819520"/>
            <a:ext cx="2590920" cy="914400"/>
          </a:xfrm>
          <a:custGeom>
            <a:avLst/>
            <a:gdLst>
              <a:gd name="textAreaLeft" fmla="*/ 112680 w 2590920"/>
              <a:gd name="textAreaRight" fmla="*/ 2478240 w 2590920"/>
              <a:gd name="textAreaTop" fmla="*/ 112680 h 914400"/>
              <a:gd name="textAreaBottom" fmla="*/ 801720 h 914400"/>
            </a:gdLst>
            <a:ahLst/>
            <a:rect l="textAreaLeft" t="textAreaTop" r="textAreaRight" b="textAreaBottom"/>
            <a:pathLst>
              <a:path w="61187" h="21600">
                <a:moveTo>
                  <a:pt x="0" y="0"/>
                </a:moveTo>
                <a:lnTo>
                  <a:pt x="61187" y="0"/>
                </a:lnTo>
                <a:lnTo>
                  <a:pt x="61187" y="21600"/>
                </a:lnTo>
                <a:lnTo>
                  <a:pt x="0" y="21600"/>
                </a:lnTo>
                <a:close/>
              </a:path>
              <a:path fill="lightenLess" w="61187" h="21600">
                <a:moveTo>
                  <a:pt x="0" y="0"/>
                </a:moveTo>
                <a:lnTo>
                  <a:pt x="61187" y="0"/>
                </a:lnTo>
                <a:lnTo>
                  <a:pt x="58524" y="2663"/>
                </a:lnTo>
                <a:lnTo>
                  <a:pt x="2663" y="2663"/>
                </a:lnTo>
                <a:close/>
              </a:path>
              <a:path fill="darken" w="61187" h="21600">
                <a:moveTo>
                  <a:pt x="61187" y="0"/>
                </a:moveTo>
                <a:lnTo>
                  <a:pt x="61187" y="21600"/>
                </a:lnTo>
                <a:lnTo>
                  <a:pt x="58524" y="18937"/>
                </a:lnTo>
                <a:lnTo>
                  <a:pt x="58524" y="2663"/>
                </a:lnTo>
                <a:close/>
              </a:path>
              <a:path fill="darkenLess" w="61187" h="21600">
                <a:moveTo>
                  <a:pt x="61187" y="21600"/>
                </a:moveTo>
                <a:lnTo>
                  <a:pt x="0" y="21600"/>
                </a:lnTo>
                <a:lnTo>
                  <a:pt x="2663" y="18937"/>
                </a:lnTo>
                <a:lnTo>
                  <a:pt x="58524" y="18937"/>
                </a:lnTo>
                <a:close/>
              </a:path>
              <a:path fill="lighten" w="61187" h="21600">
                <a:moveTo>
                  <a:pt x="0" y="21600"/>
                </a:moveTo>
                <a:lnTo>
                  <a:pt x="0" y="0"/>
                </a:lnTo>
                <a:lnTo>
                  <a:pt x="2663" y="2663"/>
                </a:lnTo>
                <a:lnTo>
                  <a:pt x="2663" y="18937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1770-1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1143000" y="4114800"/>
            <a:ext cx="2590920" cy="914400"/>
          </a:xfrm>
          <a:custGeom>
            <a:avLst/>
            <a:gdLst>
              <a:gd name="textAreaLeft" fmla="*/ 112680 w 2590920"/>
              <a:gd name="textAreaRight" fmla="*/ 2478240 w 2590920"/>
              <a:gd name="textAreaTop" fmla="*/ 112680 h 914400"/>
              <a:gd name="textAreaBottom" fmla="*/ 801720 h 914400"/>
            </a:gdLst>
            <a:ahLst/>
            <a:rect l="textAreaLeft" t="textAreaTop" r="textAreaRight" b="textAreaBottom"/>
            <a:pathLst>
              <a:path w="61187" h="21600">
                <a:moveTo>
                  <a:pt x="0" y="0"/>
                </a:moveTo>
                <a:lnTo>
                  <a:pt x="61187" y="0"/>
                </a:lnTo>
                <a:lnTo>
                  <a:pt x="61187" y="21600"/>
                </a:lnTo>
                <a:lnTo>
                  <a:pt x="0" y="21600"/>
                </a:lnTo>
                <a:close/>
              </a:path>
              <a:path fill="lightenLess" w="61187" h="21600">
                <a:moveTo>
                  <a:pt x="0" y="0"/>
                </a:moveTo>
                <a:lnTo>
                  <a:pt x="61187" y="0"/>
                </a:lnTo>
                <a:lnTo>
                  <a:pt x="58524" y="2663"/>
                </a:lnTo>
                <a:lnTo>
                  <a:pt x="2663" y="2663"/>
                </a:lnTo>
                <a:close/>
              </a:path>
              <a:path fill="darken" w="61187" h="21600">
                <a:moveTo>
                  <a:pt x="61187" y="0"/>
                </a:moveTo>
                <a:lnTo>
                  <a:pt x="61187" y="21600"/>
                </a:lnTo>
                <a:lnTo>
                  <a:pt x="58524" y="18937"/>
                </a:lnTo>
                <a:lnTo>
                  <a:pt x="58524" y="2663"/>
                </a:lnTo>
                <a:close/>
              </a:path>
              <a:path fill="darkenLess" w="61187" h="21600">
                <a:moveTo>
                  <a:pt x="61187" y="21600"/>
                </a:moveTo>
                <a:lnTo>
                  <a:pt x="0" y="21600"/>
                </a:lnTo>
                <a:lnTo>
                  <a:pt x="2663" y="18937"/>
                </a:lnTo>
                <a:lnTo>
                  <a:pt x="58524" y="18937"/>
                </a:lnTo>
                <a:close/>
              </a:path>
              <a:path fill="lighten" w="61187" h="21600">
                <a:moveTo>
                  <a:pt x="0" y="21600"/>
                </a:moveTo>
                <a:lnTo>
                  <a:pt x="0" y="0"/>
                </a:lnTo>
                <a:lnTo>
                  <a:pt x="2663" y="2663"/>
                </a:lnTo>
                <a:lnTo>
                  <a:pt x="2663" y="18937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1801-18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1143000" y="5410080"/>
            <a:ext cx="2590920" cy="914400"/>
          </a:xfrm>
          <a:custGeom>
            <a:avLst/>
            <a:gdLst>
              <a:gd name="textAreaLeft" fmla="*/ 112680 w 2590920"/>
              <a:gd name="textAreaRight" fmla="*/ 2478240 w 2590920"/>
              <a:gd name="textAreaTop" fmla="*/ 112680 h 914400"/>
              <a:gd name="textAreaBottom" fmla="*/ 801720 h 914400"/>
            </a:gdLst>
            <a:ahLst/>
            <a:rect l="textAreaLeft" t="textAreaTop" r="textAreaRight" b="textAreaBottom"/>
            <a:pathLst>
              <a:path w="61187" h="21600">
                <a:moveTo>
                  <a:pt x="0" y="0"/>
                </a:moveTo>
                <a:lnTo>
                  <a:pt x="61187" y="0"/>
                </a:lnTo>
                <a:lnTo>
                  <a:pt x="61187" y="21600"/>
                </a:lnTo>
                <a:lnTo>
                  <a:pt x="0" y="21600"/>
                </a:lnTo>
                <a:close/>
              </a:path>
              <a:path fill="lightenLess" w="61187" h="21600">
                <a:moveTo>
                  <a:pt x="0" y="0"/>
                </a:moveTo>
                <a:lnTo>
                  <a:pt x="61187" y="0"/>
                </a:lnTo>
                <a:lnTo>
                  <a:pt x="58524" y="2663"/>
                </a:lnTo>
                <a:lnTo>
                  <a:pt x="2663" y="2663"/>
                </a:lnTo>
                <a:close/>
              </a:path>
              <a:path fill="darken" w="61187" h="21600">
                <a:moveTo>
                  <a:pt x="61187" y="0"/>
                </a:moveTo>
                <a:lnTo>
                  <a:pt x="61187" y="21600"/>
                </a:lnTo>
                <a:lnTo>
                  <a:pt x="58524" y="18937"/>
                </a:lnTo>
                <a:lnTo>
                  <a:pt x="58524" y="2663"/>
                </a:lnTo>
                <a:close/>
              </a:path>
              <a:path fill="darkenLess" w="61187" h="21600">
                <a:moveTo>
                  <a:pt x="61187" y="21600"/>
                </a:moveTo>
                <a:lnTo>
                  <a:pt x="0" y="21600"/>
                </a:lnTo>
                <a:lnTo>
                  <a:pt x="2663" y="18937"/>
                </a:lnTo>
                <a:lnTo>
                  <a:pt x="58524" y="18937"/>
                </a:lnTo>
                <a:close/>
              </a:path>
              <a:path fill="lighten" w="61187" h="21600">
                <a:moveTo>
                  <a:pt x="0" y="21600"/>
                </a:moveTo>
                <a:lnTo>
                  <a:pt x="0" y="0"/>
                </a:lnTo>
                <a:lnTo>
                  <a:pt x="2663" y="2663"/>
                </a:lnTo>
                <a:lnTo>
                  <a:pt x="2663" y="18937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1815-18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343400" y="3276720"/>
          <a:ext cx="3809880" cy="254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>
                    <a:alphaModFix amt="50000"/>
                  </a:blip>
                  <a:stretch/>
                </p:blipFill>
                <p:spPr>
                  <a:xfrm>
                    <a:off x="4343400" y="3276720"/>
                    <a:ext cx="3809880" cy="2544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" name="">
            <a:hlinkClick r:id="rId6" action="ppaction://hlinksldjump"/>
          </p:cNvPr>
          <p:cNvSpPr/>
          <p:nvPr/>
        </p:nvSpPr>
        <p:spPr>
          <a:xfrm>
            <a:off x="380880" y="3808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Primera fase del 1770 al 1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99072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es seves obres no es distingeixen, formalment, de les de Haydn i de Mozart; les obres més destacables són les primeres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sonate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per a piano, els dos primers concerts per a piano i orquestra, la primera simfonia, els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quartet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opu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18, i el cèlebre Septet opus 20. Cap a la fi d’aquesta època se li manifestà la sordesa, que acabà esdevenint to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5715000"/>
            <a:ext cx="2895840" cy="762120"/>
          </a:xfrm>
          <a:custGeom>
            <a:avLst/>
            <a:gdLst>
              <a:gd name="textAreaLeft" fmla="*/ 104760 w 2895840"/>
              <a:gd name="textAreaRight" fmla="*/ 2791080 w 2895840"/>
              <a:gd name="textAreaTop" fmla="*/ 104760 h 762120"/>
              <a:gd name="textAreaBottom" fmla="*/ 657360 h 762120"/>
            </a:gdLst>
            <a:ahLst/>
            <a:rect l="textAreaLeft" t="textAreaTop" r="textAreaRight" b="textAreaBottom"/>
            <a:pathLst>
              <a:path w="82045" h="21600">
                <a:moveTo>
                  <a:pt x="0" y="0"/>
                </a:moveTo>
                <a:lnTo>
                  <a:pt x="82045" y="0"/>
                </a:lnTo>
                <a:lnTo>
                  <a:pt x="82045" y="21600"/>
                </a:lnTo>
                <a:lnTo>
                  <a:pt x="0" y="21600"/>
                </a:lnTo>
                <a:close/>
              </a:path>
              <a:path fill="lightenLess" w="82045" h="21600">
                <a:moveTo>
                  <a:pt x="0" y="0"/>
                </a:moveTo>
                <a:lnTo>
                  <a:pt x="82045" y="0"/>
                </a:lnTo>
                <a:lnTo>
                  <a:pt x="79075" y="2970"/>
                </a:lnTo>
                <a:lnTo>
                  <a:pt x="2970" y="2970"/>
                </a:lnTo>
                <a:close/>
              </a:path>
              <a:path fill="darken" w="82045" h="21600">
                <a:moveTo>
                  <a:pt x="82045" y="0"/>
                </a:moveTo>
                <a:lnTo>
                  <a:pt x="82045" y="21600"/>
                </a:lnTo>
                <a:lnTo>
                  <a:pt x="79075" y="18630"/>
                </a:lnTo>
                <a:lnTo>
                  <a:pt x="79075" y="2970"/>
                </a:lnTo>
                <a:close/>
              </a:path>
              <a:path fill="darkenLess" w="82045" h="21600">
                <a:moveTo>
                  <a:pt x="82045" y="21600"/>
                </a:moveTo>
                <a:lnTo>
                  <a:pt x="0" y="21600"/>
                </a:lnTo>
                <a:lnTo>
                  <a:pt x="2970" y="18630"/>
                </a:lnTo>
                <a:lnTo>
                  <a:pt x="79075" y="18630"/>
                </a:lnTo>
                <a:close/>
              </a:path>
              <a:path fill="lighten" w="82045" h="21600">
                <a:moveTo>
                  <a:pt x="0" y="21600"/>
                </a:moveTo>
                <a:lnTo>
                  <a:pt x="0" y="0"/>
                </a:lnTo>
                <a:lnTo>
                  <a:pt x="2970" y="2970"/>
                </a:lnTo>
                <a:lnTo>
                  <a:pt x="2970" y="1863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ep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609480" y="56386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Segona fase del 1801 al 18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143000"/>
            <a:ext cx="784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n la segona etapa reformà l’estructura clàssica de la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simfonia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substituint el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minuet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per un scherzo que permetia una major llibertat en la composició. Entre el 1804 i el 1808 compongué quatre simfonies, de la Tercera a la Sisena. La Setena i la Vuitena aparegueren simultàniament l’any 1812.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5715000"/>
            <a:ext cx="3733560" cy="763560"/>
          </a:xfrm>
          <a:custGeom>
            <a:avLst/>
            <a:gdLst>
              <a:gd name="textAreaLeft" fmla="*/ 104760 w 3733560"/>
              <a:gd name="textAreaRight" fmla="*/ 3628800 w 3733560"/>
              <a:gd name="textAreaTop" fmla="*/ 104760 h 763560"/>
              <a:gd name="textAreaBottom" fmla="*/ 658800 h 763560"/>
            </a:gdLst>
            <a:ahLst/>
            <a:rect l="textAreaLeft" t="textAreaTop" r="textAreaRight" b="textAreaBottom"/>
            <a:pathLst>
              <a:path w="105577" h="21600">
                <a:moveTo>
                  <a:pt x="0" y="0"/>
                </a:moveTo>
                <a:lnTo>
                  <a:pt x="105577" y="0"/>
                </a:lnTo>
                <a:lnTo>
                  <a:pt x="105577" y="21600"/>
                </a:lnTo>
                <a:lnTo>
                  <a:pt x="0" y="21600"/>
                </a:lnTo>
                <a:close/>
              </a:path>
              <a:path fill="lightenLess" w="105577" h="21600">
                <a:moveTo>
                  <a:pt x="0" y="0"/>
                </a:moveTo>
                <a:lnTo>
                  <a:pt x="105577" y="0"/>
                </a:lnTo>
                <a:lnTo>
                  <a:pt x="102608" y="2970"/>
                </a:lnTo>
                <a:lnTo>
                  <a:pt x="2970" y="2970"/>
                </a:lnTo>
                <a:close/>
              </a:path>
              <a:path fill="darken" w="105577" h="21600">
                <a:moveTo>
                  <a:pt x="105577" y="0"/>
                </a:moveTo>
                <a:lnTo>
                  <a:pt x="105577" y="21600"/>
                </a:lnTo>
                <a:lnTo>
                  <a:pt x="102608" y="18630"/>
                </a:lnTo>
                <a:lnTo>
                  <a:pt x="102608" y="2970"/>
                </a:lnTo>
                <a:close/>
              </a:path>
              <a:path fill="darkenLess" w="105577" h="21600">
                <a:moveTo>
                  <a:pt x="105577" y="21600"/>
                </a:moveTo>
                <a:lnTo>
                  <a:pt x="0" y="21600"/>
                </a:lnTo>
                <a:lnTo>
                  <a:pt x="2970" y="18630"/>
                </a:lnTo>
                <a:lnTo>
                  <a:pt x="102608" y="18630"/>
                </a:lnTo>
                <a:close/>
              </a:path>
              <a:path fill="lighten" w="105577" h="21600">
                <a:moveTo>
                  <a:pt x="0" y="21600"/>
                </a:moveTo>
                <a:lnTo>
                  <a:pt x="0" y="0"/>
                </a:lnTo>
                <a:lnTo>
                  <a:pt x="2970" y="2970"/>
                </a:lnTo>
                <a:lnTo>
                  <a:pt x="2970" y="1863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Setena simf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609480" y="56386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Tercera fase del 1815 al 18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5715000"/>
            <a:ext cx="4038480" cy="762120"/>
          </a:xfrm>
          <a:custGeom>
            <a:avLst/>
            <a:gdLst>
              <a:gd name="textAreaLeft" fmla="*/ 104760 w 4038480"/>
              <a:gd name="textAreaRight" fmla="*/ 3933720 w 4038480"/>
              <a:gd name="textAreaTop" fmla="*/ 104760 h 762120"/>
              <a:gd name="textAreaBottom" fmla="*/ 657360 h 762120"/>
            </a:gdLst>
            <a:ahLst/>
            <a:rect l="textAreaLeft" t="textAreaTop" r="textAreaRight" b="textAreaBottom"/>
            <a:pathLst>
              <a:path w="114415" h="21600">
                <a:moveTo>
                  <a:pt x="0" y="0"/>
                </a:moveTo>
                <a:lnTo>
                  <a:pt x="114415" y="0"/>
                </a:lnTo>
                <a:lnTo>
                  <a:pt x="114415" y="21600"/>
                </a:lnTo>
                <a:lnTo>
                  <a:pt x="0" y="21600"/>
                </a:lnTo>
                <a:close/>
              </a:path>
              <a:path fill="lightenLess" w="114415" h="21600">
                <a:moveTo>
                  <a:pt x="0" y="0"/>
                </a:moveTo>
                <a:lnTo>
                  <a:pt x="114415" y="0"/>
                </a:lnTo>
                <a:lnTo>
                  <a:pt x="111445" y="2970"/>
                </a:lnTo>
                <a:lnTo>
                  <a:pt x="2970" y="2970"/>
                </a:lnTo>
                <a:close/>
              </a:path>
              <a:path fill="darken" w="114415" h="21600">
                <a:moveTo>
                  <a:pt x="114415" y="0"/>
                </a:moveTo>
                <a:lnTo>
                  <a:pt x="114415" y="21600"/>
                </a:lnTo>
                <a:lnTo>
                  <a:pt x="111445" y="18630"/>
                </a:lnTo>
                <a:lnTo>
                  <a:pt x="111445" y="2970"/>
                </a:lnTo>
                <a:close/>
              </a:path>
              <a:path fill="darkenLess" w="114415" h="21600">
                <a:moveTo>
                  <a:pt x="114415" y="21600"/>
                </a:moveTo>
                <a:lnTo>
                  <a:pt x="0" y="21600"/>
                </a:lnTo>
                <a:lnTo>
                  <a:pt x="2970" y="18630"/>
                </a:lnTo>
                <a:lnTo>
                  <a:pt x="111445" y="18630"/>
                </a:lnTo>
                <a:close/>
              </a:path>
              <a:path fill="lighten" w="114415" h="21600">
                <a:moveTo>
                  <a:pt x="0" y="21600"/>
                </a:moveTo>
                <a:lnTo>
                  <a:pt x="0" y="0"/>
                </a:lnTo>
                <a:lnTo>
                  <a:pt x="2970" y="2970"/>
                </a:lnTo>
                <a:lnTo>
                  <a:pt x="2970" y="1863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Novena Simfon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295280"/>
            <a:ext cx="73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n l’última fase de la seva vida, creà les darreres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sonate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per a piano, com la Hammerklavier,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opu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106, els últims i aleshores incompresos </a:t>
            </a:r>
            <a:r>
              <a:rPr b="0" lang="ca-E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quartet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la Gran Fuga per a corda, opus 133, la Missa Solemnis en re major i la Novena Simfon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4" action="ppaction://hlinksldjump"/>
          </p:cNvPr>
          <p:cNvSpPr/>
          <p:nvPr/>
        </p:nvSpPr>
        <p:spPr>
          <a:xfrm>
            <a:off x="609480" y="5638680"/>
            <a:ext cx="1067040" cy="838440"/>
          </a:xfrm>
          <a:custGeom>
            <a:avLst/>
            <a:gdLst>
              <a:gd name="textAreaLeft" fmla="*/ 109440 w 1067040"/>
              <a:gd name="textAreaRight" fmla="*/ 957600 w 1067040"/>
              <a:gd name="textAreaTop" fmla="*/ 109440 h 838440"/>
              <a:gd name="textAreaBottom" fmla="*/ 72900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4664" y="2823"/>
                </a:lnTo>
                <a:lnTo>
                  <a:pt x="2823" y="2823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4664" y="18777"/>
                </a:lnTo>
                <a:lnTo>
                  <a:pt x="24664" y="2823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2823" y="18777"/>
                </a:lnTo>
                <a:lnTo>
                  <a:pt x="24664" y="18777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2823" y="2823"/>
                </a:lnTo>
                <a:lnTo>
                  <a:pt x="2823" y="18777"/>
                </a:lnTo>
                <a:close/>
              </a:path>
              <a:path fill="darken" w="27487" h="21600">
                <a:moveTo>
                  <a:pt x="7798" y="10800"/>
                </a:moveTo>
                <a:lnTo>
                  <a:pt x="19689" y="4854"/>
                </a:lnTo>
                <a:lnTo>
                  <a:pt x="19689" y="1674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8T09:41:30Z</dcterms:created>
  <dc:creator>Sr. Carlos &amp; Famili</dc:creator>
  <dc:description/>
  <dc:language>en-US</dc:language>
  <cp:lastModifiedBy>Sr. Carlos &amp; Famili</cp:lastModifiedBy>
  <dcterms:modified xsi:type="dcterms:W3CDTF">1999-06-29T06:39:50Z</dcterms:modified>
  <cp:revision>23</cp:revision>
  <dc:subject/>
  <dc:title>Ludwing van Beethov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ls meus document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