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0CD4-2038-4820-8AB3-C5ABF44E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080-9963-4850-BB93-004B92B2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15EB-3261-4CA4-A46F-A7D396C3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5D53-3C49-44C4-AD17-4C7F63CF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6AD4-738B-4605-B69C-F69314E1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EDE3-0093-4C3A-BDFE-D6E9D905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16EE-763C-4BCB-82A7-42ED157C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C206-A0CE-43F0-824D-BC8C01EE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0A5F-256E-4D02-BA13-EAF644FA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833A-5AB3-4B0C-8632-6EDF56D2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A7C4-17BA-47EC-9901-9F01F10A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165B-3710-48C9-8AD2-CD8CBDF6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6455-4323-4F30-8C7F-DBE88E047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" Target="slide3.xml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Arial"/>
              </a:rPr>
              <a:t>Comarques de Cataluny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5400" spc="-1" strike="noStrike">
                <a:solidFill>
                  <a:srgbClr val="00cc99"/>
                </a:solidFill>
                <a:latin typeface="Arial"/>
              </a:rPr>
              <a:t>El Ba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733920" y="1219320"/>
          <a:ext cx="1218960" cy="80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1219320"/>
                    <a:ext cx="121896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000000"/>
                </a:solidFill>
                <a:latin typeface="Arial"/>
              </a:rPr>
              <a:t>Escull un te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1143000" y="2438280"/>
            <a:ext cx="4114800" cy="1219320"/>
          </a:xfrm>
          <a:custGeom>
            <a:avLst/>
            <a:gdLst>
              <a:gd name="textAreaLeft" fmla="*/ 204840 w 4114800"/>
              <a:gd name="textAreaRight" fmla="*/ 3909960 w 4114800"/>
              <a:gd name="textAreaTop" fmla="*/ 204840 h 1219320"/>
              <a:gd name="textAreaBottom" fmla="*/ 1014480 h 1219320"/>
            </a:gdLst>
            <a:ahLst/>
            <a:rect l="textAreaLeft" t="textAreaTop" r="textAreaRight" b="textAreaBottom"/>
            <a:pathLst>
              <a:path w="72878" h="21600">
                <a:moveTo>
                  <a:pt x="0" y="0"/>
                </a:moveTo>
                <a:lnTo>
                  <a:pt x="72878" y="0"/>
                </a:lnTo>
                <a:lnTo>
                  <a:pt x="72878" y="21600"/>
                </a:lnTo>
                <a:lnTo>
                  <a:pt x="0" y="21600"/>
                </a:lnTo>
                <a:close/>
              </a:path>
              <a:path fill="lightenLess" w="72878" h="21600">
                <a:moveTo>
                  <a:pt x="0" y="0"/>
                </a:moveTo>
                <a:lnTo>
                  <a:pt x="72878" y="0"/>
                </a:lnTo>
                <a:lnTo>
                  <a:pt x="69250" y="3628"/>
                </a:lnTo>
                <a:lnTo>
                  <a:pt x="3628" y="3628"/>
                </a:lnTo>
                <a:close/>
              </a:path>
              <a:path fill="darken" w="72878" h="21600">
                <a:moveTo>
                  <a:pt x="72878" y="0"/>
                </a:moveTo>
                <a:lnTo>
                  <a:pt x="72878" y="21600"/>
                </a:lnTo>
                <a:lnTo>
                  <a:pt x="69250" y="17972"/>
                </a:lnTo>
                <a:lnTo>
                  <a:pt x="69250" y="3628"/>
                </a:lnTo>
                <a:close/>
              </a:path>
              <a:path fill="darkenLess" w="72878" h="21600">
                <a:moveTo>
                  <a:pt x="72878" y="21600"/>
                </a:moveTo>
                <a:lnTo>
                  <a:pt x="0" y="21600"/>
                </a:lnTo>
                <a:lnTo>
                  <a:pt x="3628" y="17972"/>
                </a:lnTo>
                <a:lnTo>
                  <a:pt x="69250" y="17972"/>
                </a:lnTo>
                <a:close/>
              </a:path>
              <a:path fill="lighten" w="72878" h="21600">
                <a:moveTo>
                  <a:pt x="0" y="21600"/>
                </a:moveTo>
                <a:lnTo>
                  <a:pt x="0" y="0"/>
                </a:lnTo>
                <a:lnTo>
                  <a:pt x="3628" y="3628"/>
                </a:lnTo>
                <a:lnTo>
                  <a:pt x="3628" y="17972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ituació geogrà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6934320" y="5867280"/>
            <a:ext cx="1295280" cy="609840"/>
          </a:xfrm>
          <a:custGeom>
            <a:avLst/>
            <a:gdLst>
              <a:gd name="textAreaLeft" fmla="*/ 100080 w 1295280"/>
              <a:gd name="textAreaRight" fmla="*/ 1195200 w 1295280"/>
              <a:gd name="textAreaTop" fmla="*/ 100080 h 609840"/>
              <a:gd name="textAreaBottom" fmla="*/ 509760 h 609840"/>
            </a:gdLst>
            <a:ahLst/>
            <a:rect l="textAreaLeft" t="textAreaTop" r="textAreaRight" b="textAreaBottom"/>
            <a:pathLst>
              <a:path w="45863" h="21600">
                <a:moveTo>
                  <a:pt x="0" y="0"/>
                </a:moveTo>
                <a:lnTo>
                  <a:pt x="45863" y="0"/>
                </a:lnTo>
                <a:lnTo>
                  <a:pt x="45863" y="21600"/>
                </a:lnTo>
                <a:lnTo>
                  <a:pt x="0" y="21600"/>
                </a:lnTo>
                <a:close/>
              </a:path>
              <a:path fill="lightenLess" w="45863" h="21600">
                <a:moveTo>
                  <a:pt x="0" y="0"/>
                </a:moveTo>
                <a:lnTo>
                  <a:pt x="45863" y="0"/>
                </a:lnTo>
                <a:lnTo>
                  <a:pt x="42309" y="3555"/>
                </a:lnTo>
                <a:lnTo>
                  <a:pt x="3555" y="3555"/>
                </a:lnTo>
                <a:close/>
              </a:path>
              <a:path fill="darken" w="45863" h="21600">
                <a:moveTo>
                  <a:pt x="45863" y="0"/>
                </a:moveTo>
                <a:lnTo>
                  <a:pt x="45863" y="21600"/>
                </a:lnTo>
                <a:lnTo>
                  <a:pt x="42309" y="18045"/>
                </a:lnTo>
                <a:lnTo>
                  <a:pt x="42309" y="3555"/>
                </a:lnTo>
                <a:close/>
              </a:path>
              <a:path fill="darkenLess" w="45863" h="21600">
                <a:moveTo>
                  <a:pt x="45863" y="21600"/>
                </a:moveTo>
                <a:lnTo>
                  <a:pt x="0" y="21600"/>
                </a:lnTo>
                <a:lnTo>
                  <a:pt x="3555" y="18045"/>
                </a:lnTo>
                <a:lnTo>
                  <a:pt x="42309" y="18045"/>
                </a:lnTo>
                <a:close/>
              </a:path>
              <a:path fill="lighten" w="45863" h="21600">
                <a:moveTo>
                  <a:pt x="0" y="21600"/>
                </a:moveTo>
                <a:lnTo>
                  <a:pt x="0" y="0"/>
                </a:lnTo>
                <a:lnTo>
                  <a:pt x="3555" y="3555"/>
                </a:lnTo>
                <a:lnTo>
                  <a:pt x="3555" y="18045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Sort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1143000" y="4191120"/>
            <a:ext cx="4114800" cy="1218960"/>
          </a:xfrm>
          <a:custGeom>
            <a:avLst/>
            <a:gdLst>
              <a:gd name="textAreaLeft" fmla="*/ 204480 w 4114800"/>
              <a:gd name="textAreaRight" fmla="*/ 3910320 w 4114800"/>
              <a:gd name="textAreaTop" fmla="*/ 204480 h 1218960"/>
              <a:gd name="textAreaBottom" fmla="*/ 1014480 h 1218960"/>
            </a:gdLst>
            <a:ahLst/>
            <a:rect l="textAreaLeft" t="textAreaTop" r="textAreaRight" b="textAreaBottom"/>
            <a:pathLst>
              <a:path w="72899" h="21600">
                <a:moveTo>
                  <a:pt x="0" y="0"/>
                </a:moveTo>
                <a:lnTo>
                  <a:pt x="72899" y="0"/>
                </a:lnTo>
                <a:lnTo>
                  <a:pt x="72899" y="21600"/>
                </a:lnTo>
                <a:lnTo>
                  <a:pt x="0" y="21600"/>
                </a:lnTo>
                <a:close/>
              </a:path>
              <a:path fill="lightenLess" w="72899" h="21600">
                <a:moveTo>
                  <a:pt x="0" y="0"/>
                </a:moveTo>
                <a:lnTo>
                  <a:pt x="72899" y="0"/>
                </a:lnTo>
                <a:lnTo>
                  <a:pt x="69271" y="3628"/>
                </a:lnTo>
                <a:lnTo>
                  <a:pt x="3628" y="3628"/>
                </a:lnTo>
                <a:close/>
              </a:path>
              <a:path fill="darken" w="72899" h="21600">
                <a:moveTo>
                  <a:pt x="72899" y="0"/>
                </a:moveTo>
                <a:lnTo>
                  <a:pt x="72899" y="21600"/>
                </a:lnTo>
                <a:lnTo>
                  <a:pt x="69271" y="17972"/>
                </a:lnTo>
                <a:lnTo>
                  <a:pt x="69271" y="3628"/>
                </a:lnTo>
                <a:close/>
              </a:path>
              <a:path fill="darkenLess" w="72899" h="21600">
                <a:moveTo>
                  <a:pt x="72899" y="21600"/>
                </a:moveTo>
                <a:lnTo>
                  <a:pt x="0" y="21600"/>
                </a:lnTo>
                <a:lnTo>
                  <a:pt x="3628" y="17972"/>
                </a:lnTo>
                <a:lnTo>
                  <a:pt x="69271" y="17972"/>
                </a:lnTo>
                <a:close/>
              </a:path>
              <a:path fill="lighten" w="72899" h="21600">
                <a:moveTo>
                  <a:pt x="0" y="21600"/>
                </a:moveTo>
                <a:lnTo>
                  <a:pt x="0" y="0"/>
                </a:lnTo>
                <a:lnTo>
                  <a:pt x="3628" y="3628"/>
                </a:lnTo>
                <a:lnTo>
                  <a:pt x="3628" y="17972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a seva histò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5867280"/>
            <a:ext cx="3352680" cy="609840"/>
          </a:xfrm>
          <a:custGeom>
            <a:avLst/>
            <a:gdLst>
              <a:gd name="textAreaLeft" fmla="*/ 100080 w 3352680"/>
              <a:gd name="textAreaRight" fmla="*/ 3252600 w 3352680"/>
              <a:gd name="textAreaTop" fmla="*/ 100080 h 609840"/>
              <a:gd name="textAreaBottom" fmla="*/ 509760 h 609840"/>
            </a:gdLst>
            <a:ahLst/>
            <a:rect l="textAreaLeft" t="textAreaTop" r="textAreaRight" b="textAreaBottom"/>
            <a:pathLst>
              <a:path w="118692" h="21600">
                <a:moveTo>
                  <a:pt x="0" y="0"/>
                </a:moveTo>
                <a:lnTo>
                  <a:pt x="118692" y="0"/>
                </a:lnTo>
                <a:lnTo>
                  <a:pt x="118692" y="21600"/>
                </a:lnTo>
                <a:lnTo>
                  <a:pt x="0" y="21600"/>
                </a:lnTo>
                <a:close/>
              </a:path>
              <a:path fill="lightenLess" w="118692" h="21600">
                <a:moveTo>
                  <a:pt x="0" y="0"/>
                </a:moveTo>
                <a:lnTo>
                  <a:pt x="118692" y="0"/>
                </a:lnTo>
                <a:lnTo>
                  <a:pt x="115137" y="3555"/>
                </a:lnTo>
                <a:lnTo>
                  <a:pt x="3555" y="3555"/>
                </a:lnTo>
                <a:close/>
              </a:path>
              <a:path fill="darken" w="118692" h="21600">
                <a:moveTo>
                  <a:pt x="118692" y="0"/>
                </a:moveTo>
                <a:lnTo>
                  <a:pt x="118692" y="21600"/>
                </a:lnTo>
                <a:lnTo>
                  <a:pt x="115137" y="18045"/>
                </a:lnTo>
                <a:lnTo>
                  <a:pt x="115137" y="3555"/>
                </a:lnTo>
                <a:close/>
              </a:path>
              <a:path fill="darkenLess" w="118692" h="21600">
                <a:moveTo>
                  <a:pt x="118692" y="21600"/>
                </a:moveTo>
                <a:lnTo>
                  <a:pt x="0" y="21600"/>
                </a:lnTo>
                <a:lnTo>
                  <a:pt x="3555" y="18045"/>
                </a:lnTo>
                <a:lnTo>
                  <a:pt x="115137" y="18045"/>
                </a:lnTo>
                <a:close/>
              </a:path>
              <a:path fill="lighten" w="118692" h="21600">
                <a:moveTo>
                  <a:pt x="0" y="21600"/>
                </a:moveTo>
                <a:lnTo>
                  <a:pt x="0" y="0"/>
                </a:lnTo>
                <a:lnTo>
                  <a:pt x="3555" y="3555"/>
                </a:lnTo>
                <a:lnTo>
                  <a:pt x="3555" y="18045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Fonts d’Informa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181480" y="762120"/>
          <a:ext cx="363852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762120"/>
                    <a:ext cx="3638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0" y="685800"/>
            <a:ext cx="5181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Aquesta comarca es troba al bell mig de la Depressió Central Catalana Limita al N amb el Berguedà, a l’E amb Osona i el Vallès Oriental, al SE amb el Vallès Occidental, al S amb el Baix Llobregat, al SW i W amb l’Anoia i al NW amb el Solsonès.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838440" cy="685800"/>
          </a:xfrm>
          <a:custGeom>
            <a:avLst/>
            <a:gdLst>
              <a:gd name="textAreaLeft" fmla="*/ 93600 w 838440"/>
              <a:gd name="textAreaRight" fmla="*/ 744840 w 838440"/>
              <a:gd name="textAreaTop" fmla="*/ 93600 h 685800"/>
              <a:gd name="textAreaBottom" fmla="*/ 59220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3455" y="2950"/>
                </a:lnTo>
                <a:lnTo>
                  <a:pt x="2950" y="295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3455" y="18650"/>
                </a:lnTo>
                <a:lnTo>
                  <a:pt x="23455" y="295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2950" y="18650"/>
                </a:lnTo>
                <a:lnTo>
                  <a:pt x="23455" y="1865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2950" y="2950"/>
                </a:lnTo>
                <a:lnTo>
                  <a:pt x="2950" y="18650"/>
                </a:lnTo>
                <a:close/>
              </a:path>
              <a:path fill="darken" w="26405" h="21600">
                <a:moveTo>
                  <a:pt x="7351" y="10800"/>
                </a:moveTo>
                <a:lnTo>
                  <a:pt x="19054" y="4949"/>
                </a:lnTo>
                <a:lnTo>
                  <a:pt x="19054" y="1665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4" action="ppaction://hlinksldjump"/>
          </p:cNvPr>
          <p:cNvSpPr/>
          <p:nvPr/>
        </p:nvSpPr>
        <p:spPr>
          <a:xfrm>
            <a:off x="6019920" y="4191120"/>
            <a:ext cx="1371600" cy="53316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cc6600"/>
                </a:solidFill>
                <a:latin typeface="Times New Roman"/>
              </a:rPr>
              <a:t>Man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200" spc="-1" strike="noStrike" u="sng">
                <a:solidFill>
                  <a:srgbClr val="000000"/>
                </a:solidFill>
                <a:uFillTx/>
                <a:latin typeface="Arial"/>
              </a:rPr>
              <a:t>Situació Geogràfic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5943600" y="5105520"/>
            <a:ext cx="1752480" cy="5331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cc6600"/>
                </a:solidFill>
                <a:latin typeface="Times New Roman"/>
              </a:rPr>
              <a:t>Montserr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5791320"/>
            <a:ext cx="1447560" cy="685800"/>
          </a:xfrm>
          <a:custGeom>
            <a:avLst/>
            <a:gdLst>
              <a:gd name="textAreaLeft" fmla="*/ 120600 w 1447560"/>
              <a:gd name="textAreaRight" fmla="*/ 1326960 w 1447560"/>
              <a:gd name="textAreaTop" fmla="*/ 120600 h 685800"/>
              <a:gd name="textAreaBottom" fmla="*/ 56520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1780" y="3800"/>
                </a:lnTo>
                <a:lnTo>
                  <a:pt x="3800" y="38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1780" y="17800"/>
                </a:lnTo>
                <a:lnTo>
                  <a:pt x="41780" y="38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3800" y="17800"/>
                </a:lnTo>
                <a:lnTo>
                  <a:pt x="41780" y="178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3800" y="3800"/>
                </a:lnTo>
                <a:lnTo>
                  <a:pt x="3800" y="17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en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09480" y="838080"/>
          <a:ext cx="3567240" cy="401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838080"/>
                    <a:ext cx="356724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648320" y="480060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La Basílica o La Col·legiata de Man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0" y="838080"/>
          <a:ext cx="4202280" cy="3962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838080"/>
                    <a:ext cx="42022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80880" y="4800600"/>
            <a:ext cx="403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El pas del Cardener per la capital del B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300" spc="-1" strike="noStrike" u="sng">
                <a:solidFill>
                  <a:srgbClr val="000000"/>
                </a:solidFill>
                <a:uFillTx/>
                <a:latin typeface="Arial"/>
              </a:rPr>
              <a:t>Manres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838440" cy="685800"/>
          </a:xfrm>
          <a:custGeom>
            <a:avLst/>
            <a:gdLst>
              <a:gd name="textAreaLeft" fmla="*/ 93600 w 838440"/>
              <a:gd name="textAreaRight" fmla="*/ 744840 w 838440"/>
              <a:gd name="textAreaTop" fmla="*/ 93600 h 685800"/>
              <a:gd name="textAreaBottom" fmla="*/ 59220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3455" y="2950"/>
                </a:lnTo>
                <a:lnTo>
                  <a:pt x="2950" y="295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3455" y="18650"/>
                </a:lnTo>
                <a:lnTo>
                  <a:pt x="23455" y="295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2950" y="18650"/>
                </a:lnTo>
                <a:lnTo>
                  <a:pt x="23455" y="1865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2950" y="2950"/>
                </a:lnTo>
                <a:lnTo>
                  <a:pt x="2950" y="18650"/>
                </a:lnTo>
                <a:close/>
              </a:path>
              <a:path fill="darken" w="26405" h="21600">
                <a:moveTo>
                  <a:pt x="7351" y="10800"/>
                </a:moveTo>
                <a:lnTo>
                  <a:pt x="19054" y="4949"/>
                </a:lnTo>
                <a:lnTo>
                  <a:pt x="19054" y="1665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5791320"/>
            <a:ext cx="1447920" cy="685800"/>
          </a:xfrm>
          <a:custGeom>
            <a:avLst/>
            <a:gdLst>
              <a:gd name="textAreaLeft" fmla="*/ 120600 w 1447920"/>
              <a:gd name="textAreaRight" fmla="*/ 1327320 w 1447920"/>
              <a:gd name="textAreaTop" fmla="*/ 120600 h 685800"/>
              <a:gd name="textAreaBottom" fmla="*/ 56520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1791" y="3800"/>
                </a:lnTo>
                <a:lnTo>
                  <a:pt x="3800" y="38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1791" y="17800"/>
                </a:lnTo>
                <a:lnTo>
                  <a:pt x="41791" y="38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3800" y="17800"/>
                </a:lnTo>
                <a:lnTo>
                  <a:pt x="41791" y="178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3800" y="3800"/>
                </a:lnTo>
                <a:lnTo>
                  <a:pt x="3800" y="17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en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200" spc="-1" strike="noStrike" u="sng">
                <a:solidFill>
                  <a:srgbClr val="000000"/>
                </a:solidFill>
                <a:uFillTx/>
                <a:latin typeface="Arial"/>
              </a:rPr>
              <a:t>Montserr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676520"/>
            <a:ext cx="3733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És un massís muntanyós que s’alça a la dreta del Llobregat, al límit del Bages, l’Anoia i del Baix Llobreg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648320" y="1752480"/>
          <a:ext cx="4038480" cy="370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752480"/>
                    <a:ext cx="403848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334120" y="57913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onestir benedict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4" action="ppaction://hlinksldjump"/>
          </p:cNvPr>
          <p:cNvSpPr/>
          <p:nvPr/>
        </p:nvSpPr>
        <p:spPr>
          <a:xfrm>
            <a:off x="380880" y="5791320"/>
            <a:ext cx="838440" cy="685800"/>
          </a:xfrm>
          <a:custGeom>
            <a:avLst/>
            <a:gdLst>
              <a:gd name="textAreaLeft" fmla="*/ 93600 w 838440"/>
              <a:gd name="textAreaRight" fmla="*/ 744840 w 838440"/>
              <a:gd name="textAreaTop" fmla="*/ 93600 h 685800"/>
              <a:gd name="textAreaBottom" fmla="*/ 59220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3455" y="2950"/>
                </a:lnTo>
                <a:lnTo>
                  <a:pt x="2950" y="295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3455" y="18650"/>
                </a:lnTo>
                <a:lnTo>
                  <a:pt x="23455" y="295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2950" y="18650"/>
                </a:lnTo>
                <a:lnTo>
                  <a:pt x="23455" y="1865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2950" y="2950"/>
                </a:lnTo>
                <a:lnTo>
                  <a:pt x="2950" y="18650"/>
                </a:lnTo>
                <a:close/>
              </a:path>
              <a:path fill="darken" w="26405" h="21600">
                <a:moveTo>
                  <a:pt x="7351" y="10800"/>
                </a:moveTo>
                <a:lnTo>
                  <a:pt x="19054" y="4949"/>
                </a:lnTo>
                <a:lnTo>
                  <a:pt x="19054" y="1665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5791320"/>
            <a:ext cx="1447920" cy="685800"/>
          </a:xfrm>
          <a:custGeom>
            <a:avLst/>
            <a:gdLst>
              <a:gd name="textAreaLeft" fmla="*/ 120600 w 1447920"/>
              <a:gd name="textAreaRight" fmla="*/ 1327320 w 1447920"/>
              <a:gd name="textAreaTop" fmla="*/ 120600 h 685800"/>
              <a:gd name="textAreaBottom" fmla="*/ 56520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1791" y="3800"/>
                </a:lnTo>
                <a:lnTo>
                  <a:pt x="3800" y="38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1791" y="17800"/>
                </a:lnTo>
                <a:lnTo>
                  <a:pt x="41791" y="38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3800" y="17800"/>
                </a:lnTo>
                <a:lnTo>
                  <a:pt x="41791" y="178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3800" y="3800"/>
                </a:lnTo>
                <a:lnTo>
                  <a:pt x="3800" y="17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en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200" spc="-1" strike="noStrike" u="sng">
                <a:solidFill>
                  <a:srgbClr val="000000"/>
                </a:solidFill>
                <a:uFillTx/>
                <a:latin typeface="Arial"/>
              </a:rPr>
              <a:t>La història del B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3886200" y="5791320"/>
            <a:ext cx="1447920" cy="685800"/>
          </a:xfrm>
          <a:custGeom>
            <a:avLst/>
            <a:gdLst>
              <a:gd name="textAreaLeft" fmla="*/ 120600 w 1447920"/>
              <a:gd name="textAreaRight" fmla="*/ 1327320 w 1447920"/>
              <a:gd name="textAreaTop" fmla="*/ 120600 h 685800"/>
              <a:gd name="textAreaBottom" fmla="*/ 56520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1791" y="3800"/>
                </a:lnTo>
                <a:lnTo>
                  <a:pt x="3800" y="38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1791" y="17800"/>
                </a:lnTo>
                <a:lnTo>
                  <a:pt x="41791" y="38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3800" y="17800"/>
                </a:lnTo>
                <a:lnTo>
                  <a:pt x="41791" y="178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3800" y="3800"/>
                </a:lnTo>
                <a:lnTo>
                  <a:pt x="3800" y="17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en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066680"/>
            <a:ext cx="868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l primer poblament estable de la comarca es remunta als grups neolítics dels sepulcres de fossa. A l’època pre-romana sembla que formà part del territori dels lacetans. La romanització fou intensa però les restes trobades són escasses. El 878, Guifré el Pelós, ocupà i repoblà el Ripollès, el Lluçanès, el baix Berguedà, el Moianès, la plana de Vic i el pla de Bages, fins a Montserrat i Sols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 flipH="1">
            <a:off x="7772400" y="5715000"/>
            <a:ext cx="838080" cy="685800"/>
          </a:xfrm>
          <a:custGeom>
            <a:avLst/>
            <a:gdLst>
              <a:gd name="textAreaLeft" fmla="*/ 93600 w 838080"/>
              <a:gd name="textAreaRight" fmla="*/ 744480 w 838080"/>
              <a:gd name="textAreaTop" fmla="*/ 93600 h 685800"/>
              <a:gd name="textAreaBottom" fmla="*/ 59220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3444" y="2950"/>
                </a:lnTo>
                <a:lnTo>
                  <a:pt x="2950" y="295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3444" y="18650"/>
                </a:lnTo>
                <a:lnTo>
                  <a:pt x="23444" y="295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2950" y="18650"/>
                </a:lnTo>
                <a:lnTo>
                  <a:pt x="23444" y="1865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2950" y="2950"/>
                </a:lnTo>
                <a:lnTo>
                  <a:pt x="2950" y="18650"/>
                </a:lnTo>
                <a:close/>
              </a:path>
              <a:path fill="darken" w="26394" h="21600">
                <a:moveTo>
                  <a:pt x="7346" y="10800"/>
                </a:moveTo>
                <a:lnTo>
                  <a:pt x="19048" y="4949"/>
                </a:lnTo>
                <a:lnTo>
                  <a:pt x="19048" y="1665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a colonització fou intensificada durant els ss X i XI gràcies a l’estructura senyorial, que garantia la seguretat de la població. Es restauraren vells castells i se’n construïren d’altres. Durant el s. XIV el Bages es trobà ja de ple en un període relativament estable, durant el qual l’explotació del bosc i la ramaderia, l’agricultura, l’explotació de la sal i les activitats menestrals i mercaderes de les viles constituïren les bases de la seva estructura econòmica, que es mantingué fins al s XIX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5791320"/>
            <a:ext cx="838440" cy="685800"/>
          </a:xfrm>
          <a:custGeom>
            <a:avLst/>
            <a:gdLst>
              <a:gd name="textAreaLeft" fmla="*/ 93600 w 838440"/>
              <a:gd name="textAreaRight" fmla="*/ 744840 w 838440"/>
              <a:gd name="textAreaTop" fmla="*/ 93600 h 685800"/>
              <a:gd name="textAreaBottom" fmla="*/ 59220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3455" y="2950"/>
                </a:lnTo>
                <a:lnTo>
                  <a:pt x="2950" y="295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3455" y="18650"/>
                </a:lnTo>
                <a:lnTo>
                  <a:pt x="23455" y="295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2950" y="18650"/>
                </a:lnTo>
                <a:lnTo>
                  <a:pt x="23455" y="1865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2950" y="2950"/>
                </a:lnTo>
                <a:lnTo>
                  <a:pt x="2950" y="18650"/>
                </a:lnTo>
                <a:close/>
              </a:path>
              <a:path fill="darken" w="26405" h="21600">
                <a:moveTo>
                  <a:pt x="7351" y="10800"/>
                </a:moveTo>
                <a:lnTo>
                  <a:pt x="19054" y="4949"/>
                </a:lnTo>
                <a:lnTo>
                  <a:pt x="19054" y="1665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5791320"/>
            <a:ext cx="1447920" cy="685800"/>
          </a:xfrm>
          <a:custGeom>
            <a:avLst/>
            <a:gdLst>
              <a:gd name="textAreaLeft" fmla="*/ 120600 w 1447920"/>
              <a:gd name="textAreaRight" fmla="*/ 1327320 w 1447920"/>
              <a:gd name="textAreaTop" fmla="*/ 120600 h 685800"/>
              <a:gd name="textAreaBottom" fmla="*/ 56520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1791" y="3800"/>
                </a:lnTo>
                <a:lnTo>
                  <a:pt x="3800" y="38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1791" y="17800"/>
                </a:lnTo>
                <a:lnTo>
                  <a:pt x="41791" y="38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3800" y="17800"/>
                </a:lnTo>
                <a:lnTo>
                  <a:pt x="41791" y="178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3800" y="3800"/>
                </a:lnTo>
                <a:lnTo>
                  <a:pt x="3800" y="17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en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onts d’informac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295280"/>
            <a:ext cx="7315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l material que s’ha utlitzat per confeccionar aquesta presentació s’ha extret de l’Enciclopèdia Microsoft Encarta 98 i de l’Hiperdiccionari de l’Enciclopèdia Catala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5791320"/>
            <a:ext cx="1447920" cy="685800"/>
          </a:xfrm>
          <a:custGeom>
            <a:avLst/>
            <a:gdLst>
              <a:gd name="textAreaLeft" fmla="*/ 120600 w 1447920"/>
              <a:gd name="textAreaRight" fmla="*/ 1327320 w 1447920"/>
              <a:gd name="textAreaTop" fmla="*/ 120600 h 685800"/>
              <a:gd name="textAreaBottom" fmla="*/ 56520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1791" y="3800"/>
                </a:lnTo>
                <a:lnTo>
                  <a:pt x="3800" y="38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1791" y="17800"/>
                </a:lnTo>
                <a:lnTo>
                  <a:pt x="41791" y="38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3800" y="17800"/>
                </a:lnTo>
                <a:lnTo>
                  <a:pt x="41791" y="178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3800" y="3800"/>
                </a:lnTo>
                <a:lnTo>
                  <a:pt x="3800" y="17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Men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5T14:45:06Z</dcterms:created>
  <dc:creator>Sr. Carlos &amp; Famili</dc:creator>
  <dc:description/>
  <dc:language>en-US</dc:language>
  <cp:lastModifiedBy>PIE</cp:lastModifiedBy>
  <dcterms:modified xsi:type="dcterms:W3CDTF">1999-06-21T21:48:53Z</dcterms:modified>
  <cp:revision>44</cp:revision>
  <dc:subject/>
  <dc:title>Comarques de Catalunya :</dc:title>
</cp:coreProperties>
</file>