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move the slide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339D-6A16-4B32-8319-EFF2C9E1C35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jecti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quest tutorial pretén ser un suport per al formador/a a l’hora de construir la primera presentació sense tenir en compte els continguts en si, sinó els elements bàsics per donar forma a una projecci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eu referència a com podem desplaçar-nos entre diapositives i com esbrinar a quin número de diapositiva ens trob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 desar una nova presenta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seleccione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uard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oseu el nom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grama PowerPoint la desa per defecte com a presentació amb l’extensió 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rneu a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dieu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br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escolliu la presentació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serveu la diverses modalitats per veure una dia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iqueu els diversos botons de la barra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ass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àgina d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jec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u text fent servir el botó de nou text de la barra d’eines de dibuix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Això és un text n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àctic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Nue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eleccion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Una presentación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colliu l’opció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apositiva de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va diapositiva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Sólo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Diapositiva amb dibuixo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eu un dibuix d’una casa amb les autoformes de la barra de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 dibuix predissenyat: 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nsertar/Imagen/Imágenes prediseñada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el cotxe de bloc de transports. Adeqüeu-lo a la diapositiva amb els botons de control del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nova diapositiva de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seño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capsa de text: 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Sóc rodona com un plat i molt alta m’han posat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es del menú de format modifiqueu la font, la mida, el colo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dibuix de les autoformes: cintes i estr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un fons de tex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s  mostrarà una pantalla semblant a aquesta i heu d’escollir la pestany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, on trobareu l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entación en blanc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ctiv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veureu els efectes de les transic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ssajar amb els intervals des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magueu un diaposi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veu de desar la presentació en format HTM i visualitzeu l’efecte amb un naveg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3AB-E020-47FA-A97E-FC20C1B8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887-C024-4537-B561-165C45D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9BE-0ED3-494B-A835-B5661D1F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79A-F7F9-4A34-91BF-A1D648AE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859F-0385-4D17-B9DF-1C28DD66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A9A5-E999-4C31-B78F-B24C495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B484-FA3A-4F57-A71E-4A03D19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0032-AEC3-433B-95AA-3263922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01D-2A96-4B05-8C74-2C1A0B8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E74-A7C2-4AC9-84CA-C8C35B8A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5F4E-CF6A-4548-8064-EEDD71C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006-7D65-4A71-849E-11A69B0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DF7E-52E4-46E2-BEAE-4DB9C66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BE9-AA03-48F5-A636-4F2F4845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75F9-4432-41AA-9C69-0B6DAE2F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0AF-8115-4E83-9389-74F5518E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F380-1929-4209-8B63-285114D8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C04-BEBF-4B08-B635-F8A2E49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603-BE8C-49F2-A4FE-03B41C38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FC2-45EC-4F65-8F3B-DFE060D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DD8-1849-4B02-83F9-5485F035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B77-B39F-4F17-A71D-BD1D601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9FC-22CA-4A4C-B83B-3E70BC0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CD1-0985-469E-9755-25E9A1A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600200"/>
            <a:ext cx="7467480" cy="2761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444-1901-4FC9-A695-59DCF009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FF16-0575-431B-A859-D3314A0F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" Target="slide18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7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8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47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Presentació de la informació en l’entorn Windows Microsoft PowerPoin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transition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 partir d’ara ja sabeu com podeu anar afegint noves diapositives a la vostra presentaci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ANTA56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40040" cy="866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276720" y="412920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0560" y="3732840"/>
            <a:ext cx="164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ontrol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TA58" descr=""/>
          <p:cNvPicPr/>
          <p:nvPr/>
        </p:nvPicPr>
        <p:blipFill>
          <a:blip r:embed="rId3"/>
          <a:stretch/>
        </p:blipFill>
        <p:spPr>
          <a:xfrm>
            <a:off x="4952880" y="4876920"/>
            <a:ext cx="3476880" cy="111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60840" y="2035080"/>
            <a:ext cx="6018120" cy="451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53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esplaçament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840" y="2341440"/>
            <a:ext cx="5094360" cy="3368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odeu fer servir la barra de desplaçamen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 la barra d’estat podreu observar el núm. de la diapositiva en la qual us trob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58400" y="4952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88160" y="304956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5400" y="6035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Guarda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odeu fer-ho de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nt l’opció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Gu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rement el botó       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Recordeu que heu de posar nom a l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ANTA5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95680" y="3962520"/>
            <a:ext cx="446040" cy="463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ANTA60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50700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6800" y="428760"/>
            <a:ext cx="427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Desa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A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ANTA6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Reto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ANTA61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20920" y="2081160"/>
            <a:ext cx="6095880" cy="4442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pic>
        <p:nvPicPr>
          <p:cNvPr id="148" name="left" descr=""/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ANTA62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671184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Veure els botons de vist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s botons us permetran accedir a les diverses modalitats per veur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ANTA66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4132440" cy="855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5" name=""/>
          <p:cNvSpPr/>
          <p:nvPr/>
        </p:nvSpPr>
        <p:spPr>
          <a:xfrm>
            <a:off x="612000" y="3733920"/>
            <a:ext cx="1927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Dia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800600"/>
            <a:ext cx="176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800" y="5791320"/>
            <a:ext cx="2419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5105520"/>
            <a:ext cx="2909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àgina d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680" y="5715000"/>
            <a:ext cx="1785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rojec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4197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4419720"/>
            <a:ext cx="20574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4495680"/>
            <a:ext cx="175284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4419720"/>
            <a:ext cx="533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7391160" y="4419720"/>
            <a:ext cx="6858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un nou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diapositives ja tenen un lloc determinat pel títol i per un text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fegir un nou text podeu fer servir el botó          de la barra d’eines de dibu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604800" cy="576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95680" y="5181480"/>
            <a:ext cx="1609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3300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Feu clic sobre el botó            i veureu aparèixer la finestra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Nueva 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leccioneu el botó d’opció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Una presentación en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format de diapositiva que voleu utilit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reació d’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8" name="PANTA2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4120" y="2057400"/>
            <a:ext cx="718920" cy="7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text  dins d’un dibuix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ibuixeu una forma qualse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vegada dibuixada la forma, seleccioneu-la i cliqueu a s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riviu un text i apareixerà a d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4737240"/>
            <a:ext cx="495288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3886200" cy="93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1480" y="5257800"/>
            <a:ext cx="16070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onar format al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barra d’eines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 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tenim la major part de les opc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7494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5800" y="3429000"/>
            <a:ext cx="1600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360" y="3352680"/>
            <a:ext cx="1824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eg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urs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Subratl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O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267080"/>
            <a:ext cx="2133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ne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360" y="5791320"/>
            <a:ext cx="20595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ugm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7240" y="6210360"/>
            <a:ext cx="1450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Viny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5181480"/>
            <a:ext cx="17528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6210360"/>
            <a:ext cx="1447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iv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4680" y="5867280"/>
            <a:ext cx="17838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ni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1148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0292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5562720"/>
            <a:ext cx="114300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24080" y="5028840"/>
            <a:ext cx="6858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680" y="43434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409720" y="4952880"/>
            <a:ext cx="12956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105160" y="5486400"/>
            <a:ext cx="11430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343040" y="5638680"/>
            <a:ext cx="1522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opiar format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>
              <a:lnSpc>
                <a:spcPct val="16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 botó        us permet copiar un conjunt d’estils a partir del text o de l’objecte seleccionat, i aplicar-lo a un altre text o objec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76840" y="2432160"/>
            <a:ext cx="417240" cy="398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 l’aline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line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met canviar l’alineació del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us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594000" cy="56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449280" cy="4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4114800"/>
            <a:ext cx="551160" cy="4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343400" y="5486400"/>
            <a:ext cx="453960" cy="4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3124080" y="36576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0292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791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684520" cy="15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l’interlinea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canviar l’interlineat d’un objecte de text podeu anar a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Interlinea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13848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barra d’eines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 afegir un gràfic senz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440080" cy="276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1843200" cy="231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15" name=""/>
          <p:cNvSpPr/>
          <p:nvPr/>
        </p:nvSpPr>
        <p:spPr>
          <a:xfrm>
            <a:off x="2133720" y="44197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bot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 la barra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us mostrarà un menú d’ordres  que us permetrà modificar els dibuixos  realitz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70600" y="3552840"/>
            <a:ext cx="2698560" cy="296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14680" y="4476600"/>
            <a:ext cx="1338120" cy="5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3143160" y="4782960"/>
            <a:ext cx="18781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funció dels patron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47720" y="2100240"/>
            <a:ext cx="78645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atró d’una diapositiva emmagatzema tota la informació de disseny sobre l’aspecte de la diapos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3840" y="4224240"/>
            <a:ext cx="800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24640" y="4646520"/>
            <a:ext cx="2627280" cy="140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22280" y="4660920"/>
            <a:ext cx="3468960" cy="34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4721400" y="48625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97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iapos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text de les diapos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tít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a pàgina de tí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no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notes de l’o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pàgines de document d’una presentaci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307120" cy="27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s elements de fons que poseu en el patró apareixeran a totes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n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modificar el fon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37200" y="3635280"/>
            <a:ext cx="2733840" cy="252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715000" cy="34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01" name=""/>
          <p:cNvSpPr/>
          <p:nvPr/>
        </p:nvSpPr>
        <p:spPr>
          <a:xfrm rot="10804200">
            <a:off x="3048120" y="35805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3760" y="2054160"/>
            <a:ext cx="4102200" cy="37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5932440" y="2503440"/>
            <a:ext cx="3211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plica a totes les dia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0240" y="3956040"/>
            <a:ext cx="3084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 la diapositiva selecc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5889600"/>
            <a:ext cx="7562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er escollir color, textura, trama o imat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Fons d’un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29019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87800" y="3279600"/>
            <a:ext cx="655920" cy="868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14560" y="5099040"/>
            <a:ext cx="11160" cy="868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Transición de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rà controlar l’efecte de la transició d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73600" y="4430880"/>
            <a:ext cx="4186080" cy="45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1280" y="2116080"/>
            <a:ext cx="791244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visualitza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Clasificador de diapositiv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reu especificar la transició per a una o divers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363920" y="3705120"/>
            <a:ext cx="41641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363600" y="4081320"/>
            <a:ext cx="3690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terval de temps a l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68560" y="6210360"/>
            <a:ext cx="51562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lació d’efec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74960" y="5086440"/>
            <a:ext cx="1243080" cy="334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07200" y="5097600"/>
            <a:ext cx="7920" cy="137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magar diapositives en l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magar una o diverses diapositives d’una presentació cal que les seleccioneu i cliqueu sobr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cultar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311560" y="5073480"/>
            <a:ext cx="6002280" cy="7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Presentacions portàtil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7360" y="2057040"/>
            <a:ext cx="777240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ones portátil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desar la presentació per poder ser utilitzada des de l’altre ordi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1240" y="4273560"/>
            <a:ext cx="3218040" cy="3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151160" y="4213080"/>
            <a:ext cx="4629240" cy="22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Programa d’Informàtica Educativa.</a:t>
            </a: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5638680"/>
            <a:ext cx="7510680" cy="799560"/>
            <a:chOff x="914400" y="5638680"/>
            <a:chExt cx="7510680" cy="799560"/>
          </a:xfrm>
        </p:grpSpPr>
        <p:pic>
          <p:nvPicPr>
            <p:cNvPr id="259" name="powe-tit" descr=""/>
            <p:cNvPicPr/>
            <p:nvPr/>
          </p:nvPicPr>
          <p:blipFill>
            <a:blip r:embed="rId2"/>
            <a:stretch/>
          </p:blipFill>
          <p:spPr>
            <a:xfrm>
              <a:off x="914400" y="5638680"/>
              <a:ext cx="2533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1840" y="5791320"/>
              <a:ext cx="198324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800" spc="-1" strike="noStrike">
                  <a:solidFill>
                    <a:srgbClr val="ffffff"/>
                  </a:solidFill>
                  <a:latin typeface="Comic Sans MS"/>
                </a:rPr>
                <a:t>Juliol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3300"/>
                </a:solidFill>
                <a:latin typeface="Arial"/>
              </a:rPr>
              <a:t>Carlos J García-Alzórriz  Pardo.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2" name="pie" descr=""/>
          <p:cNvPicPr/>
          <p:nvPr/>
        </p:nvPicPr>
        <p:blipFill>
          <a:blip r:embed="rId3"/>
          <a:stretch/>
        </p:blipFill>
        <p:spPr>
          <a:xfrm>
            <a:off x="7391520" y="990720"/>
            <a:ext cx="1230120" cy="76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352680" y="4952880"/>
            <a:ext cx="257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apositiv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4" name="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lef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3240"/>
          <a:ext cx="9372600" cy="70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372600" cy="70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l’autodisseny de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apositiva de títul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veureu dos marcs de text: un per al títol i l’altre per al subtí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NTA54" descr=""/>
          <p:cNvPicPr/>
          <p:nvPr/>
        </p:nvPicPr>
        <p:blipFill>
          <a:blip r:embed="rId2"/>
          <a:stretch/>
        </p:blipFill>
        <p:spPr>
          <a:xfrm>
            <a:off x="3495600" y="3782880"/>
            <a:ext cx="3581640" cy="270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3876840" y="3990960"/>
            <a:ext cx="3244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ff9900"/>
                </a:solidFill>
                <a:latin typeface="Arial"/>
              </a:rPr>
              <a:t>Haga clic para agregar  Ti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8" name="PANTA5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1" name="PANTA56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TA57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6340680" cy="365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4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1826640" y="581040"/>
            <a:ext cx="3259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Nov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el disseny </a:t>
            </a: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apareixeran dues seccions: una per al títol i l’altra per al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ANTA55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3962520" cy="275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criviu el text en la primera vinyeta. Premeu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a us apareixerà la següent viny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17:55:34Z</dcterms:created>
  <dc:creator>Carlos J. García-Alzórriz Pardo</dc:creator>
  <dc:description/>
  <dc:language>en-US</dc:language>
  <cp:lastModifiedBy>Sr. Carlos &amp; Famili</cp:lastModifiedBy>
  <cp:lastPrinted>1998-07-02T08:29:04Z</cp:lastPrinted>
  <dcterms:modified xsi:type="dcterms:W3CDTF">1998-07-28T11:05:24Z</dcterms:modified>
  <cp:revision>44</cp:revision>
  <dc:subject/>
  <dc:title>Presentació de la informació en l’entorn Windows Microsoft PowerPoint</dc:title>
</cp:coreProperties>
</file>