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AB6-A370-44E4-96EE-3252B8A9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911-CF0C-4114-8D35-58FBB8A3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FA0-BE4A-4C14-A2BC-F667B1E4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607-6BAD-4937-BEF8-386512CC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D48-1286-4D7B-A1DA-5A89CECB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791-220C-4A53-BC5D-497F48F9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4B9-B798-48F5-9EC5-50738541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223-D98B-4A7F-A931-8A6DF86E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C20-69DF-4FFD-AD73-63555396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6F7-CC62-4CED-B5FD-F89AAC82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14C-046A-4EDD-A6F8-1054493B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A27-5FC9-4C56-83B7-D9817E59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7BEA-D482-4E60-9CB4-BC2EAC6E2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a Nutrició i l’Alimenta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Ciències de la Natural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nutrients i les seves func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funcions bàsiques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portar l’energia necessària per al bon funcionament de l’organis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portar els materials necessaris per a la formació de noves estructures corpo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Intervenir en la regulació de totes les reaccions que tenen lloc al 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aliments s’agrup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Glúcids o hidrats de carb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ípids o grei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Vitam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ements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i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glú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a principal funció dels glúcids és la producció d’ener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Monosacàrids: glucosa, fructuosa i galact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isacàrids: sacarosa, lactosa i malt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Polisacàrids: midó, glicogen i cel·lul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grei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s greixos són nutrients rics en energia  i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’origen animal: carn de porc, xai, àne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’origen vegetal: olives, avellanes, soj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proteï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proteïnes són uns nutrients fonamentals que l’organisme utilitza per formar les seves e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vit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vitamines són nutrients que regulen el metabolísme hum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Es divideixen en dos gr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liposolubles : A, D, E,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hidrosolubles: B, C,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min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s minerals són nutrients inorgànics que desenvolupen tres tipus de func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formen una part important de certes estructures del 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són components de líquids orgàn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actuen com a reguladors de reacc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’ai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’aigua és el component fonamental dels éssers v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1T22:40:22Z</dcterms:created>
  <dc:creator>Sr. Carlos &amp; Famili</dc:creator>
  <dc:description/>
  <dc:language>en-US</dc:language>
  <cp:lastModifiedBy>Sr. Carlos &amp; Famili</cp:lastModifiedBy>
  <dcterms:modified xsi:type="dcterms:W3CDTF">1999-06-30T08:03:52Z</dcterms:modified>
  <cp:revision>10</cp:revision>
  <dc:subject/>
  <dc:title>La Nutrició i la Alimentació</dc:title>
</cp:coreProperties>
</file>