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5B63-3A4F-40A1-8D80-905D50A6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60AD-27E0-4DAE-9B2E-CF64CA20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F676-5D8C-4F1A-A85D-982909259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F573-AAF3-47B7-B639-8E310ADAD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B718-7370-4E30-83F1-D2817FC4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7289-1DA1-4890-95A2-5A5EB4A9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72EC-B54B-44BC-959D-ADBACFA2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FFE4-DF86-4D24-B0C0-5145C15B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8E2C-466C-4996-99D7-146398A0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AD8C-CF80-43A9-8EFD-276AD522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4960-CFFF-4317-87AF-5F118382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557B-C1FC-4557-BBD2-E924D2B5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7B81-F59F-4624-A950-3491E5B75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hyperlink" Target="C:\WINDOWS\WRITE.EXE pn.doc" TargetMode="External"/><Relationship Id="rId21" Type="http://schemas.openxmlformats.org/officeDocument/2006/relationships/image" Target="../media/image2.wmf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5181480"/>
            <a:ext cx="38124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39625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57600" y="45720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86280" y="383544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19440" y="269244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28195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09960" y="147312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228600"/>
            <a:ext cx="60984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81560" y="170172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38760" y="261612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38760" y="391176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5880" y="5181480"/>
            <a:ext cx="38124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24480" y="396252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81760" y="254016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62720" y="16002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1523880"/>
            <a:ext cx="38088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388620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62440" y="254016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91120" y="152280"/>
            <a:ext cx="60948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05240" y="162576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274320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43480" y="2616120"/>
            <a:ext cx="38088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09960" y="3759120"/>
            <a:ext cx="38088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05440" y="246384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33640" y="139716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62440" y="383544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388620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510552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4495680"/>
            <a:ext cx="38124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510552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24080" y="5486400"/>
            <a:ext cx="2057400" cy="990720"/>
          </a:xfrm>
          <a:custGeom>
            <a:avLst/>
            <a:gdLst/>
            <a:ahLst/>
            <a:rect l="l" t="t" r="r" b="b"/>
            <a:pathLst>
              <a:path w="1296" h="624">
                <a:moveTo>
                  <a:pt x="96" y="0"/>
                </a:moveTo>
                <a:lnTo>
                  <a:pt x="0" y="480"/>
                </a:lnTo>
                <a:lnTo>
                  <a:pt x="288" y="576"/>
                </a:lnTo>
                <a:lnTo>
                  <a:pt x="672" y="624"/>
                </a:lnTo>
                <a:lnTo>
                  <a:pt x="1296" y="528"/>
                </a:lnTo>
                <a:lnTo>
                  <a:pt x="1200" y="96"/>
                </a:lnTo>
                <a:lnTo>
                  <a:pt x="96" y="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457200"/>
            <a:ext cx="4953240" cy="5283360"/>
          </a:xfrm>
          <a:custGeom>
            <a:avLst/>
            <a:gdLst/>
            <a:ahLst/>
            <a:rect l="l" t="t" r="r" b="b"/>
            <a:pathLst>
              <a:path w="3120" h="3328">
                <a:moveTo>
                  <a:pt x="120" y="3088"/>
                </a:moveTo>
                <a:cubicBezTo>
                  <a:pt x="200" y="3152"/>
                  <a:pt x="408" y="3056"/>
                  <a:pt x="600" y="3088"/>
                </a:cubicBezTo>
                <a:cubicBezTo>
                  <a:pt x="792" y="3120"/>
                  <a:pt x="1016" y="3248"/>
                  <a:pt x="1272" y="3280"/>
                </a:cubicBezTo>
                <a:cubicBezTo>
                  <a:pt x="1528" y="3312"/>
                  <a:pt x="1840" y="3328"/>
                  <a:pt x="2136" y="3280"/>
                </a:cubicBezTo>
                <a:cubicBezTo>
                  <a:pt x="2432" y="3232"/>
                  <a:pt x="2976" y="3152"/>
                  <a:pt x="3048" y="2992"/>
                </a:cubicBezTo>
                <a:cubicBezTo>
                  <a:pt x="3120" y="2832"/>
                  <a:pt x="2560" y="2424"/>
                  <a:pt x="2568" y="2320"/>
                </a:cubicBezTo>
                <a:cubicBezTo>
                  <a:pt x="2576" y="2216"/>
                  <a:pt x="3096" y="2488"/>
                  <a:pt x="3096" y="2368"/>
                </a:cubicBezTo>
                <a:cubicBezTo>
                  <a:pt x="3096" y="2248"/>
                  <a:pt x="2592" y="1720"/>
                  <a:pt x="2568" y="1600"/>
                </a:cubicBezTo>
                <a:cubicBezTo>
                  <a:pt x="2544" y="1480"/>
                  <a:pt x="2984" y="1768"/>
                  <a:pt x="2952" y="1648"/>
                </a:cubicBezTo>
                <a:cubicBezTo>
                  <a:pt x="2920" y="1528"/>
                  <a:pt x="2440" y="1016"/>
                  <a:pt x="2376" y="880"/>
                </a:cubicBezTo>
                <a:cubicBezTo>
                  <a:pt x="2312" y="744"/>
                  <a:pt x="2648" y="976"/>
                  <a:pt x="2568" y="832"/>
                </a:cubicBezTo>
                <a:cubicBezTo>
                  <a:pt x="2488" y="688"/>
                  <a:pt x="2168" y="32"/>
                  <a:pt x="1896" y="16"/>
                </a:cubicBezTo>
                <a:cubicBezTo>
                  <a:pt x="1624" y="0"/>
                  <a:pt x="1040" y="624"/>
                  <a:pt x="936" y="736"/>
                </a:cubicBezTo>
                <a:cubicBezTo>
                  <a:pt x="832" y="848"/>
                  <a:pt x="1344" y="544"/>
                  <a:pt x="1272" y="688"/>
                </a:cubicBezTo>
                <a:cubicBezTo>
                  <a:pt x="1200" y="832"/>
                  <a:pt x="552" y="1464"/>
                  <a:pt x="504" y="1600"/>
                </a:cubicBezTo>
                <a:cubicBezTo>
                  <a:pt x="456" y="1736"/>
                  <a:pt x="1032" y="1400"/>
                  <a:pt x="984" y="1504"/>
                </a:cubicBezTo>
                <a:cubicBezTo>
                  <a:pt x="936" y="1608"/>
                  <a:pt x="240" y="2096"/>
                  <a:pt x="216" y="2224"/>
                </a:cubicBezTo>
                <a:cubicBezTo>
                  <a:pt x="192" y="2352"/>
                  <a:pt x="856" y="2192"/>
                  <a:pt x="840" y="2272"/>
                </a:cubicBezTo>
                <a:cubicBezTo>
                  <a:pt x="824" y="2352"/>
                  <a:pt x="240" y="2568"/>
                  <a:pt x="120" y="2704"/>
                </a:cubicBezTo>
                <a:cubicBezTo>
                  <a:pt x="0" y="2840"/>
                  <a:pt x="40" y="3024"/>
                  <a:pt x="120" y="308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523880"/>
            <a:ext cx="38088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62720" y="16002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388620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1828800" y="39625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62440" y="254016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38760" y="261612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152280"/>
            <a:ext cx="60948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228600"/>
            <a:ext cx="60984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05240" y="162576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81560" y="170172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274320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28195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43480" y="2616120"/>
            <a:ext cx="38088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19440" y="269244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09960" y="3759120"/>
            <a:ext cx="38088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86280" y="383544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05440" y="246384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81760" y="254016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33640" y="139716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09960" y="147312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62440" y="383544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38760" y="391176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88620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24480" y="396252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510552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1523880" y="5181480"/>
            <a:ext cx="38124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1280" y="4495680"/>
            <a:ext cx="38124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45720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9920" y="510552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5880" y="5181480"/>
            <a:ext cx="38124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380880"/>
            <a:ext cx="31244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9429-F131-4A0D-B25D-F096F044D1C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4267080"/>
            <a:ext cx="9144000" cy="2590920"/>
          </a:xfrm>
          <a:prstGeom prst="parallelogram">
            <a:avLst>
              <a:gd name="adj" fmla="val -46354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71600" y="4876920"/>
            <a:ext cx="1047600" cy="1523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209680" y="4572000"/>
            <a:ext cx="1047960" cy="1517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200400" y="4495680"/>
            <a:ext cx="1047600" cy="1517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048120" y="5340240"/>
            <a:ext cx="1047600" cy="1517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4038480" y="5340240"/>
            <a:ext cx="1047960" cy="1517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1981080" y="5340240"/>
            <a:ext cx="1047960" cy="1517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1371600" y="4191120"/>
            <a:ext cx="1047600" cy="1517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5105520" y="5340240"/>
            <a:ext cx="1047600" cy="1517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4191120" y="4724280"/>
            <a:ext cx="1047600" cy="1517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0"/>
          <a:stretch/>
        </p:blipFill>
        <p:spPr>
          <a:xfrm>
            <a:off x="5334120" y="4648320"/>
            <a:ext cx="1047600" cy="1517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1"/>
          <a:stretch/>
        </p:blipFill>
        <p:spPr>
          <a:xfrm>
            <a:off x="609480" y="5340240"/>
            <a:ext cx="1047960" cy="1517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2"/>
          <a:stretch/>
        </p:blipFill>
        <p:spPr>
          <a:xfrm>
            <a:off x="4114800" y="5340240"/>
            <a:ext cx="1047600" cy="1517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3"/>
          <a:stretch/>
        </p:blipFill>
        <p:spPr>
          <a:xfrm>
            <a:off x="6095880" y="5340240"/>
            <a:ext cx="1047960" cy="1517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4"/>
          <a:stretch/>
        </p:blipFill>
        <p:spPr>
          <a:xfrm>
            <a:off x="6705720" y="4800600"/>
            <a:ext cx="1047600" cy="1517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5"/>
          <a:stretch/>
        </p:blipFill>
        <p:spPr>
          <a:xfrm>
            <a:off x="3524400" y="4038480"/>
            <a:ext cx="1047600" cy="1517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6"/>
          <a:stretch/>
        </p:blipFill>
        <p:spPr>
          <a:xfrm>
            <a:off x="6172200" y="4114800"/>
            <a:ext cx="1047600" cy="1517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7"/>
          <a:stretch/>
        </p:blipFill>
        <p:spPr>
          <a:xfrm>
            <a:off x="7162920" y="4191120"/>
            <a:ext cx="1047600" cy="1517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8"/>
          <a:stretch/>
        </p:blipFill>
        <p:spPr>
          <a:xfrm>
            <a:off x="2209680" y="4114800"/>
            <a:ext cx="1047960" cy="1517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9"/>
          <a:stretch/>
        </p:blipFill>
        <p:spPr>
          <a:xfrm>
            <a:off x="4952880" y="3886200"/>
            <a:ext cx="1047960" cy="151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2666880" y="914400"/>
            <a:ext cx="1905120" cy="176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828800" y="91440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0120" y="914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752120" y="5943600"/>
            <a:ext cx="586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752480" y="18288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9144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2057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3505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437920" y="4343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4343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5105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54100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5720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2666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2666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3505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24480" y="35053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486400" y="46483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2666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72000" y="350496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152388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2133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2895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6600" y="28954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86600" y="5334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10666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16765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22860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28195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35053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40384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5120" y="45720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81080" y="51814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55627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55627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00400" y="55627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33920" y="55627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67080" y="55627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52880" y="55627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51055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52880" y="46483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2880" y="4114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2880" y="35053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28195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3200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40384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9880" y="48006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343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35053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52680" y="27432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52680" y="1905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67080" y="1905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1981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62720" y="23623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8195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29400" y="38862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9400" y="44956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410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5486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9144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72400" y="54864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77120" y="32004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0120" y="35812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05720" y="1523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66880" y="1676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924680" y="380880"/>
            <a:ext cx="838440" cy="914400"/>
          </a:xfrm>
          <a:custGeom>
            <a:avLst/>
            <a:gdLst>
              <a:gd name="textAreaLeft" fmla="*/ 159120 w 838440"/>
              <a:gd name="textAreaRight" fmla="*/ 679320 w 838440"/>
              <a:gd name="textAreaTop" fmla="*/ 159120 h 914400"/>
              <a:gd name="textAreaBottom" fmla="*/ 755280 h 914400"/>
            </a:gdLst>
            <a:ahLst/>
            <a:rect l="textAreaLeft" t="textAreaTop" r="textAreaRight" b="textAreaBottom"/>
            <a:pathLst>
              <a:path w="21600" h="23556">
                <a:moveTo>
                  <a:pt x="0" y="0"/>
                </a:moveTo>
                <a:lnTo>
                  <a:pt x="21600" y="0"/>
                </a:lnTo>
                <a:lnTo>
                  <a:pt x="21600" y="23556"/>
                </a:lnTo>
                <a:lnTo>
                  <a:pt x="0" y="23556"/>
                </a:lnTo>
                <a:close/>
              </a:path>
              <a:path fill="lightenLess" w="21600" h="23556">
                <a:moveTo>
                  <a:pt x="0" y="0"/>
                </a:moveTo>
                <a:lnTo>
                  <a:pt x="21600" y="0"/>
                </a:lnTo>
                <a:lnTo>
                  <a:pt x="17494" y="4106"/>
                </a:lnTo>
                <a:lnTo>
                  <a:pt x="4106" y="4106"/>
                </a:lnTo>
                <a:close/>
              </a:path>
              <a:path fill="darken" w="21600" h="23556">
                <a:moveTo>
                  <a:pt x="21600" y="0"/>
                </a:moveTo>
                <a:lnTo>
                  <a:pt x="21600" y="23556"/>
                </a:lnTo>
                <a:lnTo>
                  <a:pt x="17494" y="19450"/>
                </a:lnTo>
                <a:lnTo>
                  <a:pt x="17494" y="4106"/>
                </a:lnTo>
                <a:close/>
              </a:path>
              <a:path fill="darkenLess" w="21600" h="23556">
                <a:moveTo>
                  <a:pt x="21600" y="23556"/>
                </a:moveTo>
                <a:lnTo>
                  <a:pt x="0" y="23556"/>
                </a:lnTo>
                <a:lnTo>
                  <a:pt x="4106" y="19450"/>
                </a:lnTo>
                <a:lnTo>
                  <a:pt x="17494" y="19450"/>
                </a:lnTo>
                <a:close/>
              </a:path>
              <a:path fill="lighten" w="21600" h="23556">
                <a:moveTo>
                  <a:pt x="0" y="23556"/>
                </a:moveTo>
                <a:lnTo>
                  <a:pt x="0" y="0"/>
                </a:lnTo>
                <a:lnTo>
                  <a:pt x="4106" y="4106"/>
                </a:lnTo>
                <a:lnTo>
                  <a:pt x="4106" y="19450"/>
                </a:lnTo>
                <a:close/>
              </a:path>
              <a:path fill="darken" w="21600" h="23556">
                <a:moveTo>
                  <a:pt x="10800" y="6820"/>
                </a:moveTo>
                <a:lnTo>
                  <a:pt x="12635" y="8679"/>
                </a:lnTo>
                <a:lnTo>
                  <a:pt x="12635" y="7439"/>
                </a:lnTo>
                <a:lnTo>
                  <a:pt x="13899" y="7439"/>
                </a:lnTo>
                <a:lnTo>
                  <a:pt x="13899" y="9943"/>
                </a:lnTo>
                <a:lnTo>
                  <a:pt x="15759" y="11778"/>
                </a:lnTo>
                <a:lnTo>
                  <a:pt x="14581" y="11778"/>
                </a:lnTo>
                <a:lnTo>
                  <a:pt x="14581" y="16898"/>
                </a:lnTo>
                <a:lnTo>
                  <a:pt x="7019" y="16898"/>
                </a:lnTo>
                <a:lnTo>
                  <a:pt x="7019" y="11778"/>
                </a:lnTo>
                <a:lnTo>
                  <a:pt x="5841" y="11778"/>
                </a:lnTo>
                <a:close/>
              </a:path>
              <a:path fill="darkenLess" w="21600" h="23556">
                <a:moveTo>
                  <a:pt x="12635" y="8679"/>
                </a:moveTo>
                <a:lnTo>
                  <a:pt x="12635" y="7439"/>
                </a:lnTo>
                <a:lnTo>
                  <a:pt x="13899" y="7439"/>
                </a:lnTo>
                <a:lnTo>
                  <a:pt x="13899" y="9943"/>
                </a:lnTo>
                <a:close/>
              </a:path>
              <a:path fill="darkenLess" w="21600" h="23556">
                <a:moveTo>
                  <a:pt x="10143" y="14270"/>
                </a:moveTo>
                <a:lnTo>
                  <a:pt x="11457" y="14270"/>
                </a:lnTo>
                <a:lnTo>
                  <a:pt x="11457" y="16898"/>
                </a:lnTo>
                <a:lnTo>
                  <a:pt x="14581" y="16898"/>
                </a:lnTo>
                <a:lnTo>
                  <a:pt x="14581" y="11778"/>
                </a:lnTo>
                <a:lnTo>
                  <a:pt x="7019" y="11778"/>
                </a:lnTo>
                <a:lnTo>
                  <a:pt x="7019" y="16898"/>
                </a:lnTo>
                <a:lnTo>
                  <a:pt x="10143" y="16898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21:35:52Z</dcterms:created>
  <dc:creator>PIE</dc:creator>
  <dc:description/>
  <dc:language>en-US</dc:language>
  <cp:lastModifiedBy>Sr. Carlos &amp; Famili</cp:lastModifiedBy>
  <dcterms:modified xsi:type="dcterms:W3CDTF">1999-06-29T06:24:12Z</dcterms:modified>
  <cp:revision>29</cp:revision>
  <dc:subject/>
  <dc:title>Sin título de diapositiva</dc:title>
</cp:coreProperties>
</file>